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13.jpeg" ContentType="image/jpeg"/>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69CE-8EF5-490C-9420-DE66988EBBD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pdf.usaid.gov/pdf_docs/PDACN591.pdf"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iat.org/" TargetMode="External"/><Relationship Id="rId2" Type="http://schemas.openxmlformats.org/officeDocument/2006/relationships/hyperlink" Target="http://www.iota-tax.org/" TargetMode="External"/><Relationship Id="rId3" Type="http://schemas.openxmlformats.org/officeDocument/2006/relationships/hyperlink" Target="http://cata-tax.org/"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and Grégoire Rota-Graziosi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4B82-0B51-48B1-880F-516DDA1970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rcand and Rota-Graziosi, 2005, Tax compliance and Rank Dependent Expected Utility, </a:t>
            </a:r>
            <a:r>
              <a:rPr b="0" i="1" lang="fr-FR" sz="1200" spc="-1" strike="noStrike">
                <a:solidFill>
                  <a:srgbClr val="000000"/>
                </a:solidFill>
                <a:latin typeface="Arial"/>
              </a:rPr>
              <a:t>Geneva Risk and Insurance review</a:t>
            </a:r>
            <a:r>
              <a:rPr b="0" lang="fr-FR" sz="1200" spc="-1" strike="noStrike">
                <a:solidFill>
                  <a:srgbClr val="000000"/>
                </a:solidFill>
                <a:latin typeface="Arial"/>
              </a:rPr>
              <a:t>, 30, 57-69.</a:t>
            </a:r>
            <a:endParaRPr b="0" lang="en-US" sz="1200" spc="-1" strike="noStrike">
              <a:solidFill>
                <a:srgbClr val="000000"/>
              </a:solidFill>
              <a:latin typeface="Arial"/>
            </a:endParaRPr>
          </a:p>
        </p:txBody>
      </p:sp>
      <p:sp>
        <p:nvSpPr>
          <p:cNvPr id="2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F12C-C65A-4C8E-ACCB-C0759530E8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73320" y="698400"/>
            <a:ext cx="4649760" cy="3486240"/>
          </a:xfrm>
          <a:prstGeom prst="rect">
            <a:avLst/>
          </a:prstGeom>
          <a:ln w="0">
            <a:noFill/>
          </a:ln>
        </p:spPr>
      </p:sp>
      <p:sp>
        <p:nvSpPr>
          <p:cNvPr id="20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dern tax collection process includes, </a:t>
            </a:r>
            <a:r>
              <a:rPr b="0" i="1" lang="en-US" sz="1000" spc="-1" strike="noStrike">
                <a:solidFill>
                  <a:srgbClr val="000000"/>
                </a:solidFill>
                <a:latin typeface="Arial"/>
              </a:rPr>
              <a:t>inter alia</a:t>
            </a:r>
            <a:r>
              <a:rPr b="0" lang="en-US" sz="1000" spc="-1" strike="noStrike">
                <a:solidFill>
                  <a:srgbClr val="000000"/>
                </a:solidFill>
                <a:latin typeface="Arial"/>
              </a:rPr>
              <a:t>, the following fun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 recording basic taxpayer identifying information to facilitate routine functions, such as the issue of notices and the pursuit of enforcement actions, and to permit an understanding of the taxpayer base for better planning. A clean, accurate, and well-maintained database of taxpayers with unique taxpayer identification numbers (TINs) is sine qua non for effective tax administr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larations/ payment processing – relying on self‐assessment and filing, but storing tax return, payment, and refund information for use during audit, collection, and appe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payer services – providing information, support, and education to taxpayers to facilitate voluntary compliance and reduce the need for extensive enforcement, given limit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ons – enforcing compliance by identifying and notifying delinquent taxpayers and obtaining or negotiating outstanding amounts, thus instituting fairness in the application of the law and contributing to an adequate level of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 monitoring compliance by examining return and supporting information and issuing assessments to initiate collection ac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ons and appeals – instituting a system of checks and balances to ensure that the tax administration follows the established legal and procedural framework uniformly across taxpayers and to strengthen tax administration integrit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ctivities under each of these functions generate and, with the exception of registration, rely on information from the taxpayers' accounts with the tax administration, the maintenance of proper taxpayer accounts is vitally important.</a:t>
            </a:r>
            <a:endParaRPr b="0" lang="en-US" sz="1000" spc="-1" strike="noStrike">
              <a:solidFill>
                <a:srgbClr val="000000"/>
              </a:solidFill>
              <a:latin typeface="Arial"/>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6F3F-33DB-4B2C-90A2-E5269628FAB5}"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9760" cy="3486240"/>
          </a:xfrm>
          <a:prstGeom prst="rect">
            <a:avLst/>
          </a:prstGeom>
          <a:ln w="0">
            <a:noFill/>
          </a:ln>
        </p:spPr>
      </p:sp>
      <p:sp>
        <p:nvSpPr>
          <p:cNvPr id="20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unctional organization of tax administr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lden days, many countries had organized their tax administrations by tax typ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ncome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ales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excise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tax department would have a complete set of func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t should also be properly organized. When tasked with administering several taxes, as most are, some tax administrations are organized by type of tax.  These tax‐type organizations may have a VAT section and an income tax section.  Modern tax administrations, however, recognize the similarity of functions across taxes and are organized by function, gaining efficiency with principal activities across functions and allowing for the integrated treatment of taxpayers across taxe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organized by function have sections responsible for – across all taxes combined – registration, taxpayer services, return and payment processing, collections, audit, and objections and appeals, in addition to support units responsible for human resources, information technology, legal services, planning, budgeting, performance monitoring and evaluation, and internal audit. Functional organization allows for an integrated look at the taxpayer base during registration, the revenue stream during payment processing, and the net outstanding tax owed during collect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gmentation: LTU, MTU, STU</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LTUs contributes to the effort of rationalizing a tax administration by consolidating all its functions under one umbrella for large taxpayers. The emphasis on segmentation of taxpayers according to size, of which the LTU is one organizational form, occurred initially in Latin America in the late 70s, and is considered as one of the most important features of the modernization of tax administrations in developing countries (see, for instance, Baer, 2002). It consists in establishing a self-contained office within the tax administration, acting as a single clearance window for large taxpayers for the main domestic taxes: income taxes, VAT, sector-specific taxes (e.g. resource royalties), et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tax administrations also recognize that the taxpaying population is complex and vary taxpayer treatment by the taxpayers' size.  They usually define 'large taxpayers' as those taxpayers with assets or turnover above a certain threshold and, in some cases, taxpayers in certain industries (e.g., financial institutions, extractives, telecoms), since these taxpayers pose the highest risk to tax revenues. Large taxpayers represent as little as 10 percent or less of all taxpayers, but can often account for 80-90 percent or more of total tax collections. Large taxpayers are often also involved in complex international transactions, may wield influence within business and government circles, and usually maintain proper books and record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hough definitions may vary, medium‐size taxpayers are roughly those taxpayers that are not large, but are above the threshold over which registration and payment of VAT is required.  In contrast with large taxpayers, medium-size taxpayers often have less formal structures, such as sole proprietorships or partnerships; have moderate levels of activity that are often cash based; and possibly use less diligent bookkeeping resulting in opportunities to under‐record income and evade tax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otentially much larger segment of small or micro‐businesses, including self‐employed professionals, poses difficulties to identify, regulate, and ensure that their tax contributions are commensurate with their size and capacity to pay.   A large share of this group may be in the informal sector.    Proper record‐keeping is often non‐existent, and the whereabouts of taxpayers may be difficult to determine. The demarcation between the large, medium, and small taxpayer segments can sometimes be ambiguous.    In many countries, the dividing lines are based on turnover. The cutoff between segments and any related special measures are determined by balancing the desire of the tax administration to closely monitor the larger amount of revenue from larger taxpayers and the limited ability of the tax administration to closely administer the larger number of smaller taxpay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mi-Autonomous Revenue Authority (SAR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alluded to above, one trend in developing countries, is for tax administrations, usually through legislation, to become semi-autonomous revenue authorities (SARAs) in hopes that this arrangement will lead to more adequate funding, higher salaries and other benefits. The SARA model has received a great deal of attention among tax and customs administration experts, finance ministries and international donor organizations. SARAs are tax administrations that have greater than usual autonomy along several organizational design dimensions, including: legal character, financing, governance, personnel policy, procurement policy, and accountability relationships. Many SARAs also combine tax and customs administration under one roof.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nomy, which may differ significantly across countries, is a signal to a more credible audit policy, since control should be realized without any political interference. For Taliercio (2004), SARA is even a credible commitment of the government towards more competent, effective, and fair tax colle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advocates see SARAs as solutions not only to inadequate budgets and salaries, but also to low rates of tax compliance, ineffective tax administration staff, and corruption. The SARA model, in effect, takes the tax administration out of the MOF and reconstitutes it as a semi-autonomous entity. While there are many variations around a similar basic theme, the principal characteristics include: personnel systems outside of the civil service purview; self-financing mechanisms (often with a given percentage of gross collections); and boards of directors that usually include the Minister of Finance, other key Ministries, and private sector representatives. A recent IMF conference listed several common arguments in favor of establishing SARAs, including easier reform, addressing civil service rewards, reduced corruption, and autonomy from political motivations. However, the IMF added that, except for "autonomy from political motivation," most of the expected benefits have not been realiz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U deserves particular credit for the establishment of the </a:t>
            </a:r>
            <a:r>
              <a:rPr b="1" lang="en-US" sz="1000" spc="-1" strike="noStrike">
                <a:solidFill>
                  <a:srgbClr val="000000"/>
                </a:solidFill>
                <a:latin typeface="Arial"/>
                <a:ea typeface="Arial"/>
              </a:rPr>
              <a:t>Indirect Tax Authority </a:t>
            </a:r>
            <a:r>
              <a:rPr b="0" lang="en-US" sz="1000" spc="-1" strike="noStrike">
                <a:solidFill>
                  <a:srgbClr val="000000"/>
                </a:solidFill>
                <a:latin typeface="Arial"/>
                <a:ea typeface="Arial"/>
              </a:rPr>
              <a:t>in Bosnia and Herzegovina, which is a SAR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ax farm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oman Empire through the French Monarchy, regimes sold the rights to collect taxes to “tax farmers,” who then kept a fraction of the tax revenue they collected from a given area. US states similarly experimented with highly incentivized “tax ferrets” to collect property taxes in the 19th centur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empowered tax officials in these regimes were unpopular, and over the past several hundred years the world has moved increasingly to salaried tax officia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remains poorly studied/hidden in developing countries.</a:t>
            </a:r>
            <a:br>
              <a:rPr sz="1200"/>
            </a:br>
            <a:br>
              <a:rPr sz="1200"/>
            </a:br>
            <a:endParaRPr b="0" lang="en-US" sz="1200" spc="-1" strike="noStrike">
              <a:solidFill>
                <a:srgbClr val="000000"/>
              </a:solidFill>
              <a:latin typeface="Arial"/>
            </a:endParaRPr>
          </a:p>
        </p:txBody>
      </p:sp>
      <p:sp>
        <p:nvSpPr>
          <p:cNvPr id="2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B6C2-76D0-40A7-958C-19C72F8BD9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9760" cy="3486240"/>
          </a:xfrm>
          <a:prstGeom prst="rect">
            <a:avLst/>
          </a:prstGeom>
          <a:ln w="0">
            <a:noFill/>
          </a:ln>
        </p:spPr>
      </p:sp>
      <p:sp>
        <p:nvSpPr>
          <p:cNvPr id="2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Bird: “Tax administration may be viewed as a production process, where the inputs consist of men, materials and information and the outputs consist of revenue for the government and taxpayer equit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5494"/>
                </a:solidFill>
                <a:latin typeface="Arial"/>
              </a:rPr>
              <a:t>Tax administration needs an information system to ascertain the existing and potential tax b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277D-471D-4E11-834D-14B2144B805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ource is OECD. TAX ADMINISTRATION 2015: COMPARATIVE INFORMATION ON OECD AND OTHER ADVANCED AND EMERGING ECONOMIES – © OECD 2015. Chapter 1. Institutional arrangements for tax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unified semi autonomous bodies; a formal management/ advisory board comprised of external representatives has been established in eleven countries as part of the overall governanc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of revenue bodies • The degree of autonomy of surveyed revenue bodies varies significantly; the powers least frequently devolved are: (1) to design their internal structure (16 countries); (2) budget allocation discretion (14 countries); (3) to set the levels and mix of staff within overall budget limits (16 countries); and (4) to influence/negotiate staff remuneration levels (28 countries). • Among OECD countries, the overall degree of autonomy appeared relatively limited for revenue bodies in Estonia, Japan, Luxembourg, Portugal and Slovenia, drawing on the information reported by them. For non-OECD countries, revenue bodies in Brazil, Costa Rica, Cyprus, Hong Kong, Indonesia and Saudi Arabia appear to be in similar circumstances. • There is a concentration of less autonomous forms of institutional setups among EU countries. Non-tax related functions • Many revenue bodies reported they have been given additional tasks of a non-taxation nature (e.g. payment of social welfare benefits, the collection of non-tax debts such as child support, and student loans, and administration of aspects of the Government’s retirement income policy. Special tax complaints handling and tax administration oversight bodies • Governments in ten countries have established independent and dedicated bodies to handle tax administration-related complaints (e.g. a tax ombudsman), while in most other countries dealing with taxpayers’ complaints is the responsibility of the Government Ombudsman’s Office (or a similar body); two countries (i.e. Australia and United States) have established separate and independent tax administration oversight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E1DF-112E-4CCA-89C1-2A9F931036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9760" cy="3486240"/>
          </a:xfrm>
          <a:prstGeom prst="rect">
            <a:avLst/>
          </a:prstGeom>
          <a:ln w="0">
            <a:noFill/>
          </a:ln>
        </p:spPr>
      </p:sp>
      <p:sp>
        <p:nvSpPr>
          <p:cNvPr id="2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in developing countries face a number of common weaknesses in executing their mandate. For instan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or taxpayer databases</a:t>
            </a:r>
            <a:endParaRPr b="0" lang="en-US" sz="10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and stop fil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ak taxpayer servi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x processes -&gt; face-to-face -&gt; corrup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ak internal contro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cessive focus on audi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adequate focus on collec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fair (or nonexistent) appeals process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or taxpayer databases:</a:t>
            </a:r>
            <a:r>
              <a:rPr b="0" lang="en-US" sz="1000" spc="-1" strike="noStrike">
                <a:solidFill>
                  <a:srgbClr val="000000"/>
                </a:solidFill>
                <a:latin typeface="Arial"/>
                <a:ea typeface="Arial"/>
              </a:rPr>
              <a:t> Among their biggest challenges are poorly maintained taxpayer registries and databases, which are often clogged with inaccurate and obsolete information, making it difficult to identify and monitor the compliance of “real” taxpayers.  In Bosnia and Herzegovina, USAID, with assistance from U.S. Treasury, helped to implement a “Fraud Abatement Program” between 2002 and 2003 that resulted in the launch of new taxpayer registration systems and the registration of thousands of previously unregistered taxpayers.  Prior to this, taxpayer registries were out of date and inconsistent, and contained many entries for defunct taxpayers and "ghost" taxpayers to whom real traders would book transactions in order to avoid tax liability.  The program developed automated taxpayer registries with harmonized administrative procedures, forms, and a standardized database across the three independent political entities of Bosnia and Herzegovina – the Federation, Republika Srpska, and the District of Brčko. The systems enabled data sharing between the entities for the first time, providing an effective tool for fraud abatement.  The tax administrations in the three entities simultaneously launched campaigns to clean up taxpayer registries and to assign unique taxpayer identification numbers (TINs).  In Republika Srpska, the number of registered businesses increased by 35% between 2002 and 2004.  In the Federation, registered businesses almost tripled over the same perio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Weak taxpayer services: </a:t>
            </a:r>
            <a:r>
              <a:rPr b="0" lang="en-US" sz="1000" spc="-1" strike="noStrike">
                <a:solidFill>
                  <a:srgbClr val="000000"/>
                </a:solidFill>
                <a:latin typeface="Arial"/>
                <a:ea typeface="Arial"/>
              </a:rPr>
              <a:t>Many tax administrations have failed to adapt to modern practices designed to facilitate taxpayer compliance, making it difficult for taxpayers to understand their rights and responsibilities and fulfill their tax obligations. Opaque rules, unclear procedures, and unpredictable treatment fuel negative public perceptions of the tax system and ultimately the degree of voluntary complian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Undue focus on audit: </a:t>
            </a:r>
            <a:r>
              <a:rPr b="0" lang="en-US" sz="1000" spc="-1" strike="noStrike">
                <a:solidFill>
                  <a:srgbClr val="000000"/>
                </a:solidFill>
                <a:latin typeface="Arial"/>
                <a:ea typeface="Arial"/>
              </a:rPr>
              <a:t>Many tax administrations use audits for inappropriate, non-tax purposes including score-settling, political gain, and corruption. Where internal controls are weak, businesses commonly complain about harassment, shakedowns, and capricious treatment by tax inspectors. Not surprisingly, such an approach does little to increase revenue or encourage voluntary compliance; instead, it serves to line the pockets of unscrupulous tax officers, while discouraging unregistered businesses from emerging from the shadow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adequate focus on collections: </a:t>
            </a:r>
            <a:r>
              <a:rPr b="0" lang="en-US" sz="1000" spc="-1" strike="noStrike">
                <a:solidFill>
                  <a:srgbClr val="000000"/>
                </a:solidFill>
                <a:latin typeface="Arial"/>
                <a:ea typeface="Arial"/>
              </a:rPr>
              <a:t>Notwithstanding their zeal for audits, developing country tax administrations often give insufficient focus to the actual collection of taxes due. Even if there are procedures on the books, few tax administrations have functioning systems and capacity to detect and follow up with delinquent taxpayers and obtain or negotiate outstanding amounts. A cost‐benefit based approach to collection should be used, where the administration considers collection potential before pursuing actions, to yield a more adequate revenue stream.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Unfair (or no) access to appeals: </a:t>
            </a:r>
            <a:r>
              <a:rPr b="0" lang="en-US" sz="1000" spc="-1" strike="noStrike">
                <a:solidFill>
                  <a:srgbClr val="000000"/>
                </a:solidFill>
                <a:latin typeface="Arial"/>
                <a:ea typeface="Arial"/>
              </a:rPr>
              <a:t>Objections and appeals are anathema to the traditional tax collector who view collection targets as the sole criterion for performance. In some countries (e.g., Moldova), an operational appeals function did not even exist in the tax administration until recently; even where an appeals process is in place, its operation may be severely constrained or its decisions overturned by higher authorities. Lacking the checks and balances of a functioning administrative review mechanism, taxpayers either become resigned to living with capricious treatment as part of the cost of doing business, or resort to the courts for recourse, where tax cases can languish for years in the judicial system. This ends up imposing additional costs on the taxpayer and the government, above and beyond the revenue in dispute.</a:t>
            </a:r>
            <a:endParaRPr b="0" lang="en-US" sz="1000" spc="-1" strike="noStrike">
              <a:solidFill>
                <a:srgbClr val="000000"/>
              </a:solidFill>
              <a:latin typeface="Arial"/>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C8B2-F051-4D40-B879-1BE566BBB20F}"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9760" cy="3486240"/>
          </a:xfrm>
          <a:prstGeom prst="rect">
            <a:avLst/>
          </a:prstGeom>
          <a:ln w="0">
            <a:noFill/>
          </a:ln>
        </p:spPr>
      </p:sp>
      <p:sp>
        <p:nvSpPr>
          <p:cNvPr id="22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DAT follows the Public Expenditure and Financial Accountability (PEFA) framework for PFM.</a:t>
            </a:r>
            <a:endParaRPr b="0" lang="en-US" sz="1200" spc="-1" strike="noStrike">
              <a:solidFill>
                <a:srgbClr val="000000"/>
              </a:solidFill>
              <a:latin typeface="Arial"/>
            </a:endParaRPr>
          </a:p>
        </p:txBody>
      </p:sp>
      <p:sp>
        <p:nvSpPr>
          <p:cNvPr id="22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396E-DFE0-4D06-9800-CCE347F5FE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9760" cy="3486240"/>
          </a:xfrm>
          <a:prstGeom prst="rect">
            <a:avLst/>
          </a:prstGeom>
          <a:ln w="0">
            <a:noFill/>
          </a:ln>
        </p:spPr>
      </p:sp>
      <p:sp>
        <p:nvSpPr>
          <p:cNvPr id="22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www.tadat.org/</a:t>
            </a:r>
            <a:endParaRPr b="0" lang="en-US" sz="1200" spc="-1" strike="noStrike">
              <a:solidFill>
                <a:srgbClr val="000000"/>
              </a:solidFill>
              <a:latin typeface="Arial"/>
            </a:endParaRPr>
          </a:p>
        </p:txBody>
      </p:sp>
      <p:sp>
        <p:nvSpPr>
          <p:cNvPr id="22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18F8-7465-4ED2-B7DE-73A55CCBDE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acilitate voluntary compliance, tax administrations must provide all necessary information, support, and taxpayer education across all tax administration functions. These must be tailored according to taxpayer segment and / or type of tax, and must include answers to frequently asked questions, easily accessible instructions, generalist officers responding to routine issues, expert advice for complex queries, and multiple service channels (e.g., web information, paper brochures, and telephone inquir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ID's Business Climate Reform project in Georgia (2005‐2009) aggressive implementation of IT improvements, includ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one‐stop web portal for the public that enabled easy access to information on tax and customs legislation, procedures, forms, and other revenue related issu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onic registration, tax / trader card issuance, property tax calculation; an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iling for all tax oblig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xpayer service initiatives in Georgia led to a dramatic rise in registration and tax compliance by the public. Among others, the number of registered taxpayers increased by 121 percent between 2005 and 2008, and tax receipts rose from only 12% of GDP before the Rose Revolution to close to 25%, even amid reforms that lowered tax rates and eliminated a number of unproductive taxes.</a:t>
            </a:r>
            <a:endParaRPr b="0" lang="en-US" sz="10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5BFA-7F21-40E5-AA79-C3DA6F49675E}"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22AD-2E85-43DE-A1B7-F0BD975104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ver the past decade we’ve also seen growing interest in the “business enabling environment” and, among others, the administrative burdens that tax and border procedures place on businesses from one country to another. This movement reflects growing appreciation that taxes are not just a macroeconomic or fiscal issue, but also one affecting firms’ and individuals’ economic decisions, their productivity, and the country’s economic competitiveness.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ur focus here is on </a:t>
            </a:r>
            <a:r>
              <a:rPr b="0" i="1" lang="en-US" sz="1000" spc="-1" strike="noStrike">
                <a:solidFill>
                  <a:srgbClr val="000000"/>
                </a:solidFill>
                <a:latin typeface="Arial"/>
                <a:ea typeface="Arial"/>
              </a:rPr>
              <a:t>compliance costs. </a:t>
            </a:r>
            <a:r>
              <a:rPr b="0" lang="en-US" sz="1000" spc="-1" strike="noStrike">
                <a:solidFill>
                  <a:srgbClr val="000000"/>
                </a:solidFill>
                <a:latin typeface="Arial"/>
                <a:ea typeface="Arial"/>
              </a:rPr>
              <a:t>Compliance costs are the costs in terms of time, money, and uncertainty above and beyond the actual amount of tax remitted. They comprise both internal costs and external costs. Internal costs are those costs associated with the operations and procedures that taxpayers undertake to comply with tax laws, e.g., registering and obtaining TINs; recordkeeping for VAT, CIT and other taxes; and, in the case of employers, accounting for employee withholding. External costs, then, are everything else – the time spent waiting in lines, getting receipts, and being subjected to audits, or the costs entailed in paying bribes to tax official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ssessing/measuring compliance costs:</a:t>
            </a:r>
            <a:r>
              <a:rPr b="0" lang="en-US" sz="1000" spc="-1" strike="noStrike">
                <a:solidFill>
                  <a:srgbClr val="000000"/>
                </a:solidFill>
                <a:latin typeface="Arial"/>
                <a:ea typeface="Arial"/>
              </a:rPr>
              <a:t> The methods for measuring compliance costs vary. Oftentimes, it is limited to the estimation of </a:t>
            </a:r>
            <a:r>
              <a:rPr b="0" i="1" lang="en-US" sz="1000" spc="-1" strike="noStrike">
                <a:solidFill>
                  <a:srgbClr val="000000"/>
                </a:solidFill>
                <a:latin typeface="Arial"/>
                <a:ea typeface="Arial"/>
              </a:rPr>
              <a:t>time</a:t>
            </a:r>
            <a:r>
              <a:rPr b="0" lang="en-US" sz="1000" spc="-1" strike="noStrike">
                <a:solidFill>
                  <a:srgbClr val="000000"/>
                </a:solidFill>
                <a:latin typeface="Arial"/>
                <a:ea typeface="Arial"/>
              </a:rPr>
              <a:t> dedicated to compliance activities. The OECD has been using something called the Standard Cost Model (SCM), originally developed in the Netherlands, which estimates compliance costs as a function of (a) wages/fees paid to employees and/or tax preparers associated with each compliance requirement, (b) the time (hours) required to fulfill that compliance requirement, and (c) the quantity (# of businesses and frequency) of the compliance requirement. USAID’s Business Climate Reform Project in Georgia (GBCR) adapted the SCM approach to monetize the benefits in terms of cost-savings to government and businesses from process streamlining and other administrative enhancements that the project supported. GBCR’s final report documents some of the key life-of-project results using that methodology, including many related to tax and customs administration: see </a:t>
            </a:r>
            <a:r>
              <a:rPr b="0" lang="en-US" sz="1000" spc="-1" strike="noStrike" u="sng">
                <a:solidFill>
                  <a:srgbClr val="009999"/>
                </a:solidFill>
                <a:uFillTx/>
                <a:latin typeface="Arial"/>
                <a:ea typeface="Arial"/>
                <a:hlinkClick r:id="rId1"/>
              </a:rPr>
              <a:t>http://pdf.usaid.gov/pdf_docs/PDACN591.pdf</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payer compliance cost studies or surveys (TCCS) provide a constructive framework for understanding and quantifying the indirect costs that taxpayers face in dealing with the tax system. TCCSs are also a useful tool for assessing and prioritizing assistance options. Results vary depending on what you are measuring, and the specific country circumstances. One study in Croatia found that taxpayers spend about $11.00 in compliance costs for every $100.00 paid to the government.   In the US, total compliance costs for business have been found to exceed 20% of total federal tax revenue. In New Zealand, tax compliance costs come to about 22% of total firm turnover for small businesses, but then decline sharply thereafter.  Indeed, in most cases, surveys show that the relative costs of compliance are higher the smaller the business, even if larger businesses pay more in absolute terms to comply.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around the world are experimenting with new ways of treating their taxpayers—way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at aim to reduce the compliance costs taxpayers bear. Examples includ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onsolidate taxes: </a:t>
            </a:r>
            <a:r>
              <a:rPr b="0" lang="en-US" sz="1000" spc="-1" strike="noStrike">
                <a:solidFill>
                  <a:srgbClr val="000000"/>
                </a:solidFill>
                <a:latin typeface="Arial"/>
                <a:ea typeface="Arial"/>
              </a:rPr>
              <a:t>Reporting and other compliance costs can be reduced by replacing multiple taxes on a single base with a single tax. For instance, in Bosnia and Herzegovina, a multitude of taxes on specifi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ms of personal income imposed at the cantonal (regional) level were replaced by a single, Federation-level personal income tax. The new tax replaced about 70 different cantonal taxes, and the revenue is shared with the cantons. In addition, four or five (depending on locality) different taxes on real property use were replaced by a single, comprehensive tax on real estat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Simplify or clarify tax rules: </a:t>
            </a:r>
            <a:r>
              <a:rPr b="0" lang="en-US" sz="1000" spc="-1" strike="noStrike">
                <a:solidFill>
                  <a:srgbClr val="000000"/>
                </a:solidFill>
                <a:latin typeface="Arial"/>
                <a:ea typeface="Arial"/>
              </a:rPr>
              <a:t>In many countries, taxpayers complain about the poor quality of tax law language, which leads to ambiguity and leaves the system open to multiple and contradictory interpretations. Moldova, like several other countries of the former Soviet Union, has developed a single, coherent, and comprehensive tax code, including clearly-written substantive legislation as well as tax administration and compliance requirements. For small businesses without the capacity to maintain proper books and records, some countries have introduced simplified regimes to bring more marginal businesses into the tax net, such as flat-rate taxes on turnover. Such options are designed to make it easier for SMEs to comply, rather than subjecting them to the complications of the regular CIT and VAT regim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Reduce filing/payment frequency: </a:t>
            </a:r>
            <a:r>
              <a:rPr b="0" lang="en-US" sz="1000" spc="-1" strike="noStrike">
                <a:solidFill>
                  <a:srgbClr val="000000"/>
                </a:solidFill>
                <a:latin typeface="Arial"/>
                <a:ea typeface="Arial"/>
              </a:rPr>
              <a:t>Many countries require taxpayers to pay VAT, as well as corporate income tax and personal income tax withholdings, on a monthly basis. Sometimes it is even more frequent: in Sarajevo, until 2005, taxpayers had to pay three different taxes weekly (on sales, beverages, and catering), in three separate payments. In some countries, withholding taxes on salaries are to be paid twice monthly.  Lowering the frequency for paying such taxes (e.g., to monthly to quarterly) could result in considerable savings for both business and the tax administration. However, treasuries may see less frequent payments as threats to their cash management. One possible solution is to put different taxpayers on different schedules. It might make sense to have small taxpayers pay quarterly, while keeping larger taxpayers on more frequent schedules. For VAT payments, enterprises that regularly claim refunds (e.g., exporters) could retain a monthly filing period, but small enterprises could be given two or three months, or even longer. In the UK, small businesses pay one-twelfth of their estimated VAT bill monthly, but file a single declaration to reconcile their account at the end of the yea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liminate nuisances:</a:t>
            </a:r>
            <a:r>
              <a:rPr b="0" lang="en-US" sz="1000" spc="-1" strike="noStrike">
                <a:solidFill>
                  <a:srgbClr val="000000"/>
                </a:solidFill>
                <a:latin typeface="Arial"/>
                <a:ea typeface="Arial"/>
              </a:rPr>
              <a:t> Among others, considerable efficiencies could be gained from simplify reporting lines and reducing duplication of effort. To the extent possible, get rid of reporting arrangements where taxpayers end up answering to multiple bodies with respect to their tax compliance.  This is often the case with social security contributions.  Likewise, a common nuisance that is ubiquitous across developing and transition countries is the requirement for tax clearance. Tax clearance certificates are often required as a prerequisite for opening bank accounts, participating in public tenders, or even importing goods and certify that the taxpayer is current with his or her tax obligations. The practice is widespread, and on the face of it appears to be a reasonable way of ensuring compliance, reducing fraud, and generating revenues. However, there is little evidence that it does any of these things, and if anything creates one more opportunity for corruption. </a:t>
            </a:r>
            <a:endParaRPr b="0" lang="en-US" sz="1000" spc="-1" strike="noStrike">
              <a:solidFill>
                <a:srgbClr val="000000"/>
              </a:solidFill>
              <a:latin typeface="Arial"/>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C610-3B77-4885-BC33-0402B971262A}"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5280" y="193680"/>
            <a:ext cx="3633840" cy="2725560"/>
          </a:xfrm>
          <a:prstGeom prst="rect">
            <a:avLst/>
          </a:prstGeom>
          <a:ln w="0">
            <a:noFill/>
          </a:ln>
        </p:spPr>
      </p:sp>
      <p:sp>
        <p:nvSpPr>
          <p:cNvPr id="232" name="PlaceHolder 2"/>
          <p:cNvSpPr>
            <a:spLocks noGrp="1"/>
          </p:cNvSpPr>
          <p:nvPr>
            <p:ph type="body"/>
          </p:nvPr>
        </p:nvSpPr>
        <p:spPr>
          <a:xfrm>
            <a:off x="768240" y="3279240"/>
            <a:ext cx="5610240" cy="3681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other cost to small businesses is the sense (or fact) that they are being preyed upon by tax inspectors. In many countries, tax inspectors show up unannounced, request all sorts of documentation, and cause major disruption to law-abiding taxpayers, often for very little financial rew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based audit has become the standard in modern tax administration and is also central to lowering or minimizing compliance costs. The logic is straightforward: a tax system that uses self-assessment to collect the bulk of tax money should “reward” taxpayers who file correctly by leaving them alone: voluntary compliance is enhanced when taxpayers know that if they file and pay properly they can rest easy knowing that they have done their duty. The limited resources available for the audit program should be focused on taxpayers who do not follow the rules.  At the same time, such a system reduces opportunities for corruption, collusion and ext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der a risk management approach, audits are selected based on clear criteria and are never used for the sake of extortion, political punishment, or favoritism. A risk-based, automated returns selection process identifies flagrant violators of the tax laws. From among these violators, audit managers select those cases that will be the most productive in maximizing tax revenue and fostering voluntary compliance, taking into consideration factors such as size of business, geographic location, market segment, audit history, time lapse from last audit, types of declarations filed, third-party information, and local knowledge of the industry and taxpayer.  By carefully applying these parameters, the tax administration can effectively maintain an “audit presence” in the commun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uter-assisted audit selection has become the norm in modern tax audit, using risk criteria to analyze information reported on tax returns and select for audit consideration those returns or taxpayers who have reported certain items outside the norm, such as low gross receipts, low profit margin, excess expenses, unusual expenditures, and late fi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est risk-based audit selection systems thrive on rich information resources. Such resources go considerably beyond the information that the tax administration maintains as part of its tax processes to include information that would be available on taxpayers aside from tax transactions. Such information would include purchases and transfers of real estate, international travel, credit card use, large  bank transfers, inheritances, gifts to charitable institutions, international financial transactions, large sales or purchases from other taxpayers or importations, and similar market-related events. Use of third-party information, including from banks, business and land registries, other government agencies, and other businesses, can be a productive source of leads on potential non-compliance. The development of electronic data sharing can be extremely useful in enhancing tax audit and enforcement, but requires cooperation among agencies and most likely legal author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related benefit of using risk management systems is that it gives the tax authorities an effective means of verifying VAT claims, which can help to speed up refunds to business taxpayers. Governments want assurance that businesses are not fraudulently claiming VAT credits; businesses want their money back quickly, and delays deprive them of critical working capital, with exporters often suffering the most.  Some tax administrations use risk criteria to flag suspect claims; refunds not flagged for audit can then be processed immediately.</a:t>
            </a:r>
            <a:endParaRPr b="0" lang="en-US" sz="1000" spc="-1" strike="noStrike">
              <a:solidFill>
                <a:srgbClr val="000000"/>
              </a:solidFill>
              <a:latin typeface="Arial"/>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7A6A-58DE-4428-9CF6-BA25B6305C52}"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976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n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han, Khwaja and Olken, 2014, Tax farming redux: Experimental evidence on performance pay for tax collector, NBER WP 20627.</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cale field experiment on tax collector incentives in Punjab (Pakistan) for property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erformance-pay schemes.</a:t>
            </a:r>
            <a:br>
              <a:rPr sz="1200"/>
            </a:br>
            <a:br>
              <a:rPr sz="1200"/>
            </a:br>
            <a:r>
              <a:rPr b="0" lang="en-US" sz="1200" spc="-1" strike="noStrike">
                <a:solidFill>
                  <a:srgbClr val="000000"/>
                </a:solidFill>
                <a:latin typeface="Arial"/>
              </a:rPr>
              <a:t>The “Revenue” scheme provided incentives based solely on revenue collected above a benchmark predicted from historic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nue Plus” scheme provided incentives exactly as in the Revenue scheme, but made adjustments (plus/minus three-fourths of</a:t>
            </a:r>
            <a:br>
              <a:rPr sz="1200"/>
            </a:br>
            <a:r>
              <a:rPr b="0" lang="en-US" sz="1200" spc="-1" strike="noStrike">
                <a:solidFill>
                  <a:srgbClr val="000000"/>
                </a:solidFill>
                <a:latin typeface="Arial"/>
              </a:rPr>
              <a:t>baseline salary) based on taxpayer satisfaction and accuracy of tax assessments, as determined by an independent survey of taxp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cheme, “Flexible Bonus,” reward collectors for a much wider set of pre-specified criteria set by the tax department, and by allowing for subjective adjustments based on period-end overall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eme that rewarded purely on revenue did best.</a:t>
            </a:r>
            <a:br>
              <a:rPr sz="1200"/>
            </a:br>
            <a:br>
              <a:rPr sz="1200"/>
            </a:br>
            <a:br>
              <a:rPr sz="1200"/>
            </a:br>
            <a:br>
              <a:rPr sz="1200"/>
            </a:br>
            <a:endParaRPr b="0" lang="en-US" sz="1200" spc="-1" strike="noStrike">
              <a:solidFill>
                <a:srgbClr val="000000"/>
              </a:solidFill>
              <a:latin typeface="Arial"/>
            </a:endParaRPr>
          </a:p>
        </p:txBody>
      </p:sp>
      <p:sp>
        <p:nvSpPr>
          <p:cNvPr id="23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D490-09B2-44F7-838B-94D5373B7B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976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is no intrinsic reason for administration of extractive industries to be harder than it is for other industries. They are simpler than other industries (such as finance and telecoms) in that they involve physical operations with outputs that can be analyzed, weighed, and measured, with prices in most cases quoted on international exchanges. And the vast bulk of revenues is often paid by a few large and mostly multinational taxpayers, with a high stake in maintaining government goodwill.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nistration is nonetheless often difficult and badly performed. The (often excessive) variety and complexity of extractive industry fiscal regimes often pose serious challenges. Important tax rules are often complex, unclear, or open to abuse. Even with just a small number of companies to manage, countries often struggle to cope with routine processing and reporting, hampering effective filing and payment enforcement. Special natural resource taxes—for example, royalties and resource rent taxes (RRTs)—depart from the regular tax system and are sometimes administered by non-tax departments (such as a ministry of energy and mines or, in the case of oil &amp; gas, a national oil company), fragmenting the administration of the natural resource fiscal regime and posing challenges for compliance management and interagency coordination. Royalty administration is often particularly inefficient, with frequent assessments, no annual return, and no reconciliation to financial statements and corporate tax returns. Dealing with artisanal miners, as distinct from multinational mining companies, poses different challenges as well.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complicate matters, governments often apply special ring-fencing rules to the concessions they grant so that higher taxes on natural resource extraction are not reduced by extraneous costs or offset by losses from other investments. Yet governments also face pressure to negotiate special tax deals outside the tax law to compensate investors for the exceptional risk they are taking on. (In Liberia, the concession agreements that the government has entered into with international companies to extract rubber, iron ore and other indigenous resources have the force of law, superseding relevant provisions of the Revenue Code.) As a result, the proliferation of special deals can make the law opaque and create a proliferation of natural resource fiscal regimes, significantly complicating administration. The presence of national extractive industries companies or similar state-owned operations that wield both commercial roles and regulatory power exacerbate this probl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pite the importance of extractive industry fiscal regimes to revenues in many countries, the pay, status, and authority are often inadequate to recruit staff of the quality required to effectively administer them. Some countries, such as Zambia, have established specialized units within their revenue authorities to deal exclusively with extractives issues, but this alone cannot overcome the issues generated by fragmented administration. According to one recent IMF study, a short-term strategy to achieve quick returns might be for the different agencies with revenue administration responsibilities to collaborate better. Then, using all their information sources, the agencies identify what they consider the biggest and riskiest companies and the areas the agencies are most concerned about. A unified task force and program to audit those risks could then be established, concentrating on the cases that can be investigated and settled most quickly, perhaps bringing in outside audit expertise to support the exercise.</a:t>
            </a:r>
            <a:endParaRPr b="0" lang="en-US" sz="1000" spc="-1" strike="noStrike">
              <a:solidFill>
                <a:srgbClr val="000000"/>
              </a:solidFill>
              <a:latin typeface="Arial"/>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E207-17B6-417A-9910-95288AE7132A}"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rPr>
              <a:t>Milka Casanegra de Jantscher, 1990, “Administering a VAT,” in M. Gillis, C.S. Shoup, and G.P. Sicat, eds., Value Added Taxation in Developing Countries, World Bank, p. 179.</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ody)"/>
              </a:rPr>
              <a:t>An effective tax administration is one that “collects the right amount of tax, at the right time, and does so at minimal cost to the government and the least burden to taxpayers.” (USAID, Detailed Guidelines for Improved Tax Administration in Latin America and the Caribbean, 20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ody)"/>
              </a:rPr>
              <a:t>In other words, a well-administered tax system is one where compliance costs are low, where tax administration is able to collect about all the revenues it should given tax law; and where corruption, inefficiency, or mismanagement does not impede these objectives.</a:t>
            </a:r>
            <a:endParaRPr b="0" lang="en-US" sz="10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D12D-9C72-424D-B341-DE85243AE800}"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a:t>
            </a:r>
            <a:r>
              <a:rPr b="0" i="1" lang="en-US" sz="1000" spc="-1" strike="noStrike">
                <a:solidFill>
                  <a:srgbClr val="000000"/>
                </a:solidFill>
                <a:latin typeface="Arial"/>
                <a:ea typeface="Arial"/>
              </a:rPr>
              <a:t>can collect a good tax poorly, but you can’t collect a bad tax well:</a:t>
            </a:r>
            <a:r>
              <a:rPr b="0" lang="en-US" sz="1000" spc="-1" strike="noStrike">
                <a:solidFill>
                  <a:srgbClr val="000000"/>
                </a:solidFill>
                <a:latin typeface="Arial"/>
                <a:ea typeface="Arial"/>
              </a:rPr>
              <a:t> The best tax policy in the world is worth little if it cannot be implemented effectively.  Tax policy design must take into account the administrative dimension of taxation.  What </a:t>
            </a:r>
            <a:r>
              <a:rPr b="0" i="1" lang="en-US" sz="1000" spc="-1" strike="noStrike">
                <a:solidFill>
                  <a:srgbClr val="000000"/>
                </a:solidFill>
                <a:latin typeface="Arial"/>
                <a:ea typeface="Arial"/>
              </a:rPr>
              <a:t>can</a:t>
            </a:r>
            <a:r>
              <a:rPr b="0" lang="en-US" sz="1000" spc="-1" strike="noStrike">
                <a:solidFill>
                  <a:srgbClr val="000000"/>
                </a:solidFill>
                <a:latin typeface="Arial"/>
                <a:ea typeface="Arial"/>
              </a:rPr>
              <a:t> be done may to a considerable extent determine what </a:t>
            </a:r>
            <a:r>
              <a:rPr b="0" i="1" lang="en-US" sz="1000" spc="-1" strike="noStrike">
                <a:solidFill>
                  <a:srgbClr val="000000"/>
                </a:solidFill>
                <a:latin typeface="Arial"/>
                <a:ea typeface="Arial"/>
              </a:rPr>
              <a:t>is</a:t>
            </a:r>
            <a:r>
              <a:rPr b="0" lang="en-US" sz="1000" spc="-1" strike="noStrike">
                <a:solidFill>
                  <a:srgbClr val="000000"/>
                </a:solidFill>
                <a:latin typeface="Arial"/>
                <a:ea typeface="Arial"/>
              </a:rPr>
              <a:t> done in any count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was highlighted when we discussed tax policy, tax design in developing countries is strongly influenced by economic structure.</a:t>
            </a:r>
            <a:r>
              <a:rPr b="0" lang="en-US" sz="1000" spc="-1" strike="noStrike" baseline="30000">
                <a:solidFill>
                  <a:srgbClr val="000000"/>
                </a:solidFill>
                <a:latin typeface="Arial"/>
                <a:ea typeface="Arial"/>
              </a:rPr>
              <a:t> </a:t>
            </a:r>
            <a:r>
              <a:rPr b="0" lang="en-US" sz="1000" spc="-1" strike="noStrike">
                <a:solidFill>
                  <a:srgbClr val="000000"/>
                </a:solidFill>
                <a:latin typeface="Arial"/>
                <a:ea typeface="Arial"/>
              </a:rPr>
              <a:t> Many developing countries have a large traditional agricultural sector that is not easily taxed.  Many also have a significant informal or shadow economy that also is largely outside the formal tax system.  The potentially reachable tax base, thus, constitutes a smaller portion of total economic activity than in developed countries.  The size of the untaxed economy is in part a function of tax policy.  For example, the high social insurance tax rates levied in some transition economies create an incentive for a large informal economy by discouraging employers from treating many service providers as employees or encouraging the under-reporting of wage levels.  The resulting lower tax revenues often lead governments to raise tax rates, further exacerbating incentives to evade taxes.  Improving tax administration is, thus, central to the choice of tax structures and to improving taxation in developing and transitional countr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t improving tax administration alone may not generate the revenues required to balance the budget or to finance tax policy changes that narrow the tax base through tax concessions or lower tax rates. Nor is increased revenue always the only goal of improved administration; sometimes the goal is simply to enhance fairness or transparency in tax collection. Moreover, since improving administration takes time, any additional revenues may only accrue over a number of years.  Cutting tax rates or granting additional concessions or tax reliefs in the hope that improved administration will quickly make up any revenue losses is never a good ide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ax design must take into account administrative capacity:</a:t>
            </a:r>
            <a:r>
              <a:rPr b="0" lang="en-US" sz="1000" spc="-1" strike="noStrike">
                <a:solidFill>
                  <a:srgbClr val="000000"/>
                </a:solidFill>
                <a:latin typeface="Arial"/>
                <a:ea typeface="Arial"/>
              </a:rPr>
              <a:t> The failure to develop good tax administration and good tax policy together has been a particular problem in some transitional countries.  In Russia, for example, serious problems existed with both the structure of the VAT and the lack of administrative experience and capacity.   A simple example is that under the initial VAT legislation, no tax liability was due when loans were made from one business to another.  Thus, a buyer would claim to have made a loan that was never repaid (and was in fact payment for goods) to a supplier and no tax was due.  The result was a significant loss of revenue.  A more capable administration would have foiled this simple evasion technique, but better legislation was also need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How revenues are collected is as important as how much is collected:</a:t>
            </a:r>
            <a:r>
              <a:rPr b="0" lang="en-US" sz="1000" spc="-1" strike="noStrike">
                <a:solidFill>
                  <a:srgbClr val="000000"/>
                </a:solidFill>
                <a:latin typeface="Arial"/>
                <a:ea typeface="Arial"/>
              </a:rPr>
              <a:t> How a tax system is administered not only affects its yield (in terms of revenue collected), but also its incidence (who bears the burden of taxation) and its administrative efficiency (the costs of collecting and paying taxes). The resources used in administering and complying with taxes (or, for that matter, evading them) are real economic costs.  Good tax policy requires keeping such costs as low as possible while also achieving revenue, growth, and distributional goals as effectively as possible. Even if the policies are good, administration that is seen as unfair and capricious may bring the tax system as a whole into disrepute.  </a:t>
            </a:r>
            <a:endParaRPr b="0" lang="en-US" sz="10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B160-A603-46C6-B553-1BB67791ED06}"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879560" y="696960"/>
            <a:ext cx="3252960" cy="2438280"/>
          </a:xfrm>
          <a:prstGeom prst="rect">
            <a:avLst/>
          </a:prstGeom>
          <a:ln w="0">
            <a:noFill/>
          </a:ln>
        </p:spPr>
      </p:sp>
      <p:sp>
        <p:nvSpPr>
          <p:cNvPr id="187" name="PlaceHolder 2"/>
          <p:cNvSpPr>
            <a:spLocks noGrp="1"/>
          </p:cNvSpPr>
          <p:nvPr>
            <p:ph type="body"/>
          </p:nvPr>
        </p:nvSpPr>
        <p:spPr>
          <a:xfrm>
            <a:off x="700200" y="3423960"/>
            <a:ext cx="5610240" cy="5645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of Fin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policy Uni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s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administ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and regional tax administ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s (collect VAT at border and exci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pay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estic business, corpo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 and micro enterpris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but locally residen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eign business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employees) and famil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self-empl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professionals – organized, accountants, tax preparers, tax advisors, some are lawyers some accoun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organiz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F</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EC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t>
            </a:r>
            <a:r>
              <a:rPr b="0" lang="en-GB" sz="1000" spc="-1" strike="noStrike" u="sng">
                <a:solidFill>
                  <a:srgbClr val="009999"/>
                </a:solidFill>
                <a:uFillTx/>
                <a:latin typeface="Arial"/>
                <a:hlinkClick r:id="rId1"/>
              </a:rPr>
              <a:t>Inter-American Centre for Tax Administrations</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TA (</a:t>
            </a:r>
            <a:r>
              <a:rPr b="0" lang="en-GB" sz="1000" spc="-1" strike="noStrike" u="sng">
                <a:solidFill>
                  <a:srgbClr val="009999"/>
                </a:solidFill>
                <a:uFillTx/>
                <a:latin typeface="Arial"/>
                <a:hlinkClick r:id="rId2"/>
              </a:rPr>
              <a:t>Inter-European Organisation of Tax Administrations</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ommonwealth Association of Tax Administ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2FF1-D50D-4BEE-BB47-BF7BEE9B69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lict of interests in develop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toral ministries want to develop the sector they are in charge: mining, tourism,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y produce an attractive law or a code to regulate the relevant economic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laws provide some tax exemptions on the main State tax and often allow to raise some revenue directly for the sectroal Min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hare of the mining royalties for the Ministry of Mining and CIT ex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rist tax or bed tax for the Ministry in charge of Tourisme and CIT or VAT ex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w Public Dinance Management =&gt; Promotion of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lex current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ilure at the Treasu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encies are more transparent (donor can easily follow thei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agencies must be financially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ise of quasi-taxes, which look like tax but are not collected by the tax administration (revenue does not appear in the budget of the central gover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151D-3305-4CA6-819C-FD704A3861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Lindert (2014)</a:t>
            </a: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D483-39BE-4C51-ADC1-D26AC471EB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effectiveness with limited resources, modern tax administrations focus </a:t>
            </a:r>
            <a:r>
              <a:rPr b="0" lang="en-US" sz="1000" spc="-1" strike="noStrike">
                <a:solidFill>
                  <a:srgbClr val="000000"/>
                </a:solidFill>
                <a:latin typeface="Arial"/>
              </a:rPr>
              <a:t>on three key task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ing Compliance – This involves such elements as providing clear instructions, understandable forms, education, and assistance to permit taxpayers to comply voluntarily with their tax obliga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Compliance – This involves such elements as establishing and maintaining information systems to monitor taxpayer accounts and an appropriate audit strategy to detect non‐complianc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ing Compliance – This involves effectively applying a penalty regime to deter non‐compliance and devising procedures that ensure timely detection and follow‐up with identified areas of noncompliance (e.g. stop‐filers, non-filers, delinquent payers, etc.).</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o this all effectively, the tax authorities need to put tremendous effort into collecting financial, economic, and other relevant information from taxpayers, relevant third parties, and other government agencies.  The information must be stored in an accessible and useful fashion; and, most importantly, it must then be used to ensure that those who should be on the tax rolls, are, that those who should file returns, do, that those who should pay on time, do, and that those who do not comply are identified, prosecuted and punished as appropriate.   All this is easy to say and hard to do -- but it is not an impossible task.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ing </a:t>
            </a:r>
            <a:r>
              <a:rPr b="0" i="1" lang="en-US" sz="1000" spc="-1" strike="noStrike">
                <a:solidFill>
                  <a:srgbClr val="000000"/>
                </a:solidFill>
                <a:latin typeface="Arial"/>
              </a:rPr>
              <a:t>voluntary </a:t>
            </a:r>
            <a:r>
              <a:rPr b="0" lang="en-US" sz="1000" spc="-1" strike="noStrike">
                <a:solidFill>
                  <a:srgbClr val="000000"/>
                </a:solidFill>
                <a:latin typeface="Arial"/>
              </a:rPr>
              <a:t>compliance is really Job #1 for the tax administration. This requires making sure that those who should be in the system are in the system and that they have access to the services (e.g., call centers), the tools, and the information needed to understand and comply with the rules. If taxpayers are required to register, the registration process should be as easy as possible, and filing and payment of taxes and other routine procedures should be consistent and straightforward. This approach rests on treating the taxpayer as a client to be served and not a thief to be caugh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same time, systems must be in place to identify and monitor those who do not register or comply voluntarily.  Tax authorities should adopt an appropriate taxpayer identification system, applying a unique taxpayer identification number (TIN) for each taxpayer, to facilitate compliance and enforcement. In the U.S., the Social Security Number serves as the "TIN" for all individual taxpayers, which among others helps to ensure compliance for both withholding and payment of income taxes and Social Security and Medicare tax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authorities need robust systems and a process for determining tax liabilities.  This may be done administratively (as with most property taxes) or via </a:t>
            </a:r>
            <a:r>
              <a:rPr b="0" i="1" lang="en-US" sz="1000" spc="-1" strike="noStrike">
                <a:solidFill>
                  <a:srgbClr val="000000"/>
                </a:solidFill>
                <a:latin typeface="Arial"/>
              </a:rPr>
              <a:t>self-assessment</a:t>
            </a:r>
            <a:r>
              <a:rPr b="0" lang="en-US" sz="1000" spc="-1" strike="noStrike">
                <a:solidFill>
                  <a:srgbClr val="000000"/>
                </a:solidFill>
                <a:latin typeface="Arial"/>
              </a:rPr>
              <a:t> (as is typical with most income taxes and the VAT). In either case, tax administrations must ensure that revenues and expenses are properly calculated in determining taxable profits for the income tax, and that export credits and refunds are properly handled under the VAT.  [NB: Although our earlier discussion of tax policy highlighted the standard of “zero-rating” VAT on exports, in practice many countries fail to provide the timely rebates provided by the VAT legislation for exported goods.  Taxpayers cannot be expected to respect tax laws when the government does no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es due must also be collected (or, more to the point, </a:t>
            </a:r>
            <a:r>
              <a:rPr b="0" i="1" lang="en-US" sz="1000" spc="-1" strike="noStrike">
                <a:solidFill>
                  <a:srgbClr val="000000"/>
                </a:solidFill>
                <a:latin typeface="Arial"/>
              </a:rPr>
              <a:t>paid</a:t>
            </a:r>
            <a:r>
              <a:rPr b="0" lang="en-US" sz="1000" spc="-1" strike="noStrike">
                <a:solidFill>
                  <a:srgbClr val="000000"/>
                </a:solidFill>
                <a:latin typeface="Arial"/>
              </a:rPr>
              <a:t>.). This task is best handled through the banking system, and many governments have entered into contracts with commercial banks to provide this service.  It is seldom appropriate for tax administration officials to handle money directl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some taxpayers are not honest, so the tax administration also needs to be able to detect and deal with non-compliance or outright tax evasion. Tax authorities require estimates of the extent and nature of the potential tax base, for example, by estimating what is sometimes called the “tax gap.”  Some estimate of the number and type of individuals and firms not registered with the tax authorities is needed to devise strategies to bring them into the tax system.  In some countries the major tax problem may be that many taxpayers who are in the system are substantially under-reporting their tax base. Without some knowledge of the unreported base, and its determinants, no administration can properly allocate its resources to improve tax collection and to ensure all parts of society bear their fair share of the tax burde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attention must also be paid to the simple task of ensuring that those who are in the system file on time and pay the amounts due.  Immediate follow-up of non-filers and those whose payments do not match their liabilities is a too often neglected aspect of good tax administration.  Adequate interest charges must be imposed on late payments to ensure that non-payment of taxes does not become a cheap source of finance.  Similarly, an adequate penalty structure is needed to ensure that those who should register do so, that those who should file do so, and that those who under-report their tax bases are sufficiently penalized to increase the costs of evading </a:t>
            </a:r>
            <a:r>
              <a:rPr b="0" lang="en-US" sz="1200" spc="-1" strike="noStrike">
                <a:solidFill>
                  <a:srgbClr val="000000"/>
                </a:solidFill>
                <a:latin typeface="Arial"/>
              </a:rPr>
              <a:t>tax. </a:t>
            </a: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D641-033D-49B7-B13D-1D8D599357D4}"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heory of optimal taxation (Diamond and Mirrlees) assumes a pefect tax administration, that is no tax ev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velopment of tax system analysis takes explictly into account imperfect tax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explains why some classic results (for instance, Ramsey rule) may be discussed or not relevent in countries where tax administration is weak.</a:t>
            </a:r>
            <a:endParaRPr b="0" lang="en-US" sz="1200" spc="-1" strike="noStrike">
              <a:solidFill>
                <a:srgbClr val="000000"/>
              </a:solidFill>
              <a:latin typeface="Arial"/>
            </a:endParaRPr>
          </a:p>
        </p:txBody>
      </p:sp>
      <p:sp>
        <p:nvSpPr>
          <p:cNvPr id="20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5769-2E5C-401C-8E61-CFD0B1AE46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C6E7C-EFEE-4E73-87FA-4E574518D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E25E8-1A3C-4353-9DE8-ACBA64A74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6B767-340A-4294-9168-48428E19A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1ACED-C291-4193-9796-3F32A9EAC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B7168-A5C3-491E-8AE1-A7FBDA71D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3F8C2-1237-47A7-81D5-A4765141D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A36FF-F543-419A-BBA2-49533108B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4A764-91AB-405D-AEC4-B4F8ABC52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FB23C-41DD-438C-992B-912957AC3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50648-BD7B-4A72-83C7-F333CB813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91731-9E50-460F-8AB0-E632C140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E6768-7916-47F9-A057-9CA07CDE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258E6-28B5-4118-B2C5-5E25094DC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DBA55-49F3-496A-9FB3-52234E37B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5E9CB-DB16-4CA6-BD59-D2B82900D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BBF87-C5C4-432A-8F3D-D4942A6CD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3B935-C7DE-46E9-A619-0D1B3AA8F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443CF-5185-4081-A182-A09B08B87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D995A-2168-4F15-AF19-3ABCE55B5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44BA-699C-4CAF-A8F4-313C1C5A4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F1742-A404-4170-914E-4F7C08685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A3DDE-27D3-4060-AC8E-9A2E2A40C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BA3C4-8F45-4D13-8B15-CED12388E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114F-CB7D-46BD-BF74-EE65B33B2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8B3B-B1DE-4BF9-BE24-409A723B29E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0FA7-2BA2-4011-B9F5-18F2C2C9574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Tax administration</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588960" y="393372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9</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97" name="TextBox 3"/>
          <p:cNvSpPr/>
          <p:nvPr/>
        </p:nvSpPr>
        <p:spPr>
          <a:xfrm flipH="1">
            <a:off x="3707640" y="4270320"/>
            <a:ext cx="4248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Tax evasion in US</a:t>
            </a:r>
            <a:endParaRPr b="1" lang="en-US" sz="2800" spc="-1" strike="noStrike">
              <a:solidFill>
                <a:srgbClr val="0f5494"/>
              </a:solidFill>
              <a:latin typeface="Verdana"/>
            </a:endParaRPr>
          </a:p>
        </p:txBody>
      </p:sp>
      <p:sp>
        <p:nvSpPr>
          <p:cNvPr id="12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0FC6-2E5B-4A38-A202-B7F94E659D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7" name="Picture 2" descr=""/>
          <p:cNvPicPr/>
          <p:nvPr/>
        </p:nvPicPr>
        <p:blipFill>
          <a:blip r:embed="rId1"/>
          <a:stretch/>
        </p:blipFill>
        <p:spPr>
          <a:xfrm>
            <a:off x="826920" y="2060640"/>
            <a:ext cx="6939000" cy="460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Business Processes” of the Tax Administration</a:t>
            </a:r>
            <a:endParaRPr b="1" lang="en-US" sz="3000" spc="-1" strike="noStrike">
              <a:solidFill>
                <a:srgbClr val="0f5494"/>
              </a:solidFill>
              <a:latin typeface="Verdana"/>
            </a:endParaRPr>
          </a:p>
        </p:txBody>
      </p:sp>
      <p:sp>
        <p:nvSpPr>
          <p:cNvPr id="129" name="PlaceHolder 2"/>
          <p:cNvSpPr>
            <a:spLocks noGrp="1"/>
          </p:cNvSpPr>
          <p:nvPr>
            <p:ph/>
          </p:nvPr>
        </p:nvSpPr>
        <p:spPr>
          <a:xfrm>
            <a:off x="457200" y="2491920"/>
            <a:ext cx="8229600" cy="3529080"/>
          </a:xfrm>
          <a:prstGeom prst="rect">
            <a:avLst/>
          </a:prstGeom>
          <a:noFill/>
          <a:ln w="0">
            <a:noFill/>
          </a:ln>
        </p:spPr>
        <p:txBody>
          <a:bodyPr anchor="t">
            <a:normAutofit fontScale="88000"/>
          </a:bodyPr>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registration (TIN)</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clarations (return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ayment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service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forced collection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ccounting</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dit</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ons and appeal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services</a:t>
            </a:r>
            <a:endParaRPr b="0" i="1" lang="en-US" sz="2400" spc="-1" strike="noStrike">
              <a:solidFill>
                <a:srgbClr val="0f5494"/>
              </a:solidFill>
              <a:latin typeface="Verdana"/>
            </a:endParaRPr>
          </a:p>
        </p:txBody>
      </p:sp>
      <p:pic>
        <p:nvPicPr>
          <p:cNvPr id="130" name="Picture 6" descr=""/>
          <p:cNvPicPr/>
          <p:nvPr/>
        </p:nvPicPr>
        <p:blipFill>
          <a:blip r:embed="rId1"/>
          <a:stretch/>
        </p:blipFill>
        <p:spPr>
          <a:xfrm>
            <a:off x="4929120" y="4255920"/>
            <a:ext cx="1479600" cy="2286000"/>
          </a:xfrm>
          <a:prstGeom prst="rect">
            <a:avLst/>
          </a:prstGeom>
          <a:ln w="0">
            <a:noFill/>
          </a:ln>
        </p:spPr>
      </p:pic>
      <p:pic>
        <p:nvPicPr>
          <p:cNvPr id="131" name="Picture 7" descr=""/>
          <p:cNvPicPr/>
          <p:nvPr/>
        </p:nvPicPr>
        <p:blipFill>
          <a:blip r:embed="rId2"/>
          <a:stretch/>
        </p:blipFill>
        <p:spPr>
          <a:xfrm>
            <a:off x="6423120" y="2286000"/>
            <a:ext cx="1820880" cy="2573280"/>
          </a:xfrm>
          <a:prstGeom prst="rect">
            <a:avLst/>
          </a:prstGeom>
          <a:ln w="0">
            <a:noFill/>
          </a:ln>
        </p:spPr>
      </p:pic>
      <p:sp>
        <p:nvSpPr>
          <p:cNvPr id="13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4191-403E-48B0-8A6D-CAA38EF72EAA}"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rganizational choices</a:t>
            </a:r>
            <a:endParaRPr b="1" lang="en-US" sz="3000" spc="-1" strike="noStrike">
              <a:solidFill>
                <a:srgbClr val="0f5494"/>
              </a:solidFill>
              <a:latin typeface="Verdana"/>
            </a:endParaRPr>
          </a:p>
        </p:txBody>
      </p:sp>
      <p:sp>
        <p:nvSpPr>
          <p:cNvPr id="134" name=""/>
          <p:cNvSpPr txBox="1"/>
          <p:nvPr/>
        </p:nvSpPr>
        <p:spPr>
          <a:xfrm>
            <a:off x="539640" y="2204640"/>
            <a:ext cx="8229600" cy="3600360"/>
          </a:xfrm>
          <a:prstGeom prst="rect">
            <a:avLst/>
          </a:prstGeom>
          <a:noFill/>
          <a:ln w="0">
            <a:noFill/>
          </a:ln>
        </p:spPr>
        <p:txBody>
          <a:bodyPr anchor="t">
            <a:normAutofit fontScale="88000"/>
          </a:bodyPr>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unctional organization of tax administration</a:t>
            </a:r>
            <a:endParaRPr b="0" i="1" lang="en-US" sz="24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er segmentation: Large Taxpayer Unit</a:t>
            </a:r>
            <a:endParaRPr b="0" i="1" lang="en-US" sz="24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mi-Autonomous Revenue Authority (SARA)</a:t>
            </a:r>
            <a:endParaRPr b="0" i="1" lang="en-US" sz="24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ategic delegation of the tax collection power</a:t>
            </a:r>
            <a:endParaRPr b="1" lang="en-US" sz="20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tegrated with Customs </a:t>
            </a:r>
            <a:endParaRPr b="1" lang="en-US" sz="20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farming: a long history</a:t>
            </a:r>
            <a:endParaRPr b="0" i="1" lang="en-US" sz="24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legate to the private sector the collection of taxes.</a:t>
            </a:r>
            <a:endParaRPr b="1" lang="en-US" sz="2000" spc="-1" strike="noStrike">
              <a:solidFill>
                <a:srgbClr val="0f5494"/>
              </a:solidFill>
              <a:latin typeface="Verdana"/>
            </a:endParaRPr>
          </a:p>
        </p:txBody>
      </p:sp>
      <p:sp>
        <p:nvSpPr>
          <p:cNvPr id="13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88DB-8AEB-4F5B-A2B8-E006F1DEEC9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5494"/>
                </a:solidFill>
                <a:latin typeface="Verdana"/>
              </a:rPr>
              <a:t>The information system of  tax administration</a:t>
            </a:r>
            <a:endParaRPr b="1" lang="en-US" sz="3000" spc="-1" strike="noStrike">
              <a:solidFill>
                <a:srgbClr val="0f5494"/>
              </a:solidFill>
              <a:latin typeface="Verdana"/>
            </a:endParaRPr>
          </a:p>
        </p:txBody>
      </p:sp>
      <p:sp>
        <p:nvSpPr>
          <p:cNvPr id="137" name=""/>
          <p:cNvSpPr txBox="1"/>
          <p:nvPr/>
        </p:nvSpPr>
        <p:spPr>
          <a:xfrm>
            <a:off x="457200" y="2276640"/>
            <a:ext cx="8229600" cy="4176720"/>
          </a:xfrm>
          <a:prstGeom prst="rect">
            <a:avLst/>
          </a:prstGeom>
          <a:noFill/>
          <a:ln w="0">
            <a:noFill/>
          </a:ln>
        </p:spPr>
        <p:txBody>
          <a:bodyPr anchor="t">
            <a:normAutofit/>
          </a:bodyPr>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assess the potential tax base for the aggregate econom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identify potential taxable entities and estimate the amount of the tax base for each of these entities;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classify potential taxpayers into relatively homogenous groups from the point of view of differences in the resources needed and the strategy the tax administration must employ to collect taxes from them;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monitor and provide feedback on the effectiveness of strategies employed by the tax administration in collecting taxes from different groups of potential taxpayers; and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monitor equity violations induced by existing procedural law.</a:t>
            </a:r>
            <a:endParaRPr b="1" lang="en-US" sz="1800" spc="-1" strike="noStrike">
              <a:solidFill>
                <a:srgbClr val="0f5494"/>
              </a:solidFill>
              <a:latin typeface="Verdana"/>
            </a:endParaRPr>
          </a:p>
        </p:txBody>
      </p:sp>
      <p:sp>
        <p:nvSpPr>
          <p:cNvPr id="13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FDEC-642F-453A-9395-0391D946C5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Institutional arrangements for revenue administration </a:t>
            </a:r>
            <a:endParaRPr b="1" lang="en-US" sz="2800" spc="-1" strike="noStrike">
              <a:solidFill>
                <a:srgbClr val="0f5494"/>
              </a:solidFill>
              <a:latin typeface="Verdana"/>
            </a:endParaRPr>
          </a:p>
        </p:txBody>
      </p:sp>
      <p:sp>
        <p:nvSpPr>
          <p:cNvPr id="140" name=""/>
          <p:cNvSpPr txBox="1"/>
          <p:nvPr/>
        </p:nvSpPr>
        <p:spPr>
          <a:xfrm>
            <a:off x="0" y="2349000"/>
            <a:ext cx="9144000" cy="4032360"/>
          </a:xfrm>
          <a:prstGeom prst="rect">
            <a:avLst/>
          </a:prstGeom>
          <a:noFill/>
          <a:ln w="0">
            <a:noFill/>
          </a:ln>
        </p:spPr>
        <p:txBody>
          <a:bodyPr anchor="t">
            <a:normAutofit fontScale="98000"/>
          </a:bodyPr>
          <a:p>
            <a:pPr marL="335880" indent="-335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ajority of countries surveyed by OECD have a “unified semi-autonomous”  body responsible for the administration of direct and indirect taxes.</a:t>
            </a:r>
            <a:endParaRPr b="0" i="1" lang="en-US" sz="2000" spc="-1" strike="noStrike">
              <a:solidFill>
                <a:srgbClr val="0f5494"/>
              </a:solidFill>
              <a:latin typeface="Verdana"/>
            </a:endParaRPr>
          </a:p>
          <a:p>
            <a:pPr marL="335880" indent="-335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Less autonomous forms of institutional setups include: </a:t>
            </a:r>
            <a:endParaRPr b="0" i="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0" lang="en-US" sz="2000" spc="-1" strike="noStrike">
                <a:solidFill>
                  <a:srgbClr val="0f5494"/>
                </a:solidFill>
                <a:latin typeface="Verdana"/>
              </a:rPr>
              <a:t>a single directorate within the ministry of finance (MOF) comprising all relevant functions and responsible for both direct and indirect taxes (12 countries); </a:t>
            </a:r>
            <a:endParaRPr b="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 </a:t>
            </a:r>
            <a:r>
              <a:rPr b="0" lang="en-US" sz="2000" spc="-1" strike="noStrike">
                <a:solidFill>
                  <a:srgbClr val="0f5494"/>
                </a:solidFill>
                <a:latin typeface="Verdana"/>
              </a:rPr>
              <a:t>a set of multiple directorates/agencies within the formal structure of the MOF (seven countries); and</a:t>
            </a:r>
            <a:endParaRPr b="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 </a:t>
            </a:r>
            <a:r>
              <a:rPr b="0" lang="en-US" sz="2000" spc="-1" strike="noStrike">
                <a:solidFill>
                  <a:srgbClr val="0f5494"/>
                </a:solidFill>
                <a:latin typeface="Verdana"/>
              </a:rPr>
              <a:t>separate direct and indirect tax administrations, generally comprising all relevant functions (two countries). </a:t>
            </a:r>
            <a:endParaRPr b="1" lang="en-US" sz="2000" spc="-1" strike="noStrike">
              <a:solidFill>
                <a:srgbClr val="0f5494"/>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5175-F15B-474F-B83F-3BDB05AE78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9520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Institutional arrangements for revenue administration (cont.)</a:t>
            </a:r>
            <a:endParaRPr b="1" lang="en-US" sz="2600" spc="-1" strike="noStrike">
              <a:solidFill>
                <a:srgbClr val="0f5494"/>
              </a:solidFill>
              <a:latin typeface="Verdana"/>
            </a:endParaRPr>
          </a:p>
        </p:txBody>
      </p:sp>
      <p:sp>
        <p:nvSpPr>
          <p:cNvPr id="143" name=""/>
          <p:cNvSpPr txBox="1"/>
          <p:nvPr/>
        </p:nvSpPr>
        <p:spPr>
          <a:xfrm>
            <a:off x="133200" y="1978200"/>
            <a:ext cx="9010800" cy="465264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lear dichotomy of approach taken to the collection of social security contributions (SSCs)  of the 32 OECD countries with SSC regime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3 have integrated their collection with tax administration   operation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balance administer their collection through separate bodies.</a:t>
            </a:r>
            <a:endParaRPr b="1" lang="en-US" sz="18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irteen OECD member countries have aligned tax and customs operations within a single agency.</a:t>
            </a:r>
            <a:endParaRPr b="0" i="1" lang="en-US" sz="2000" spc="-1" strike="noStrike">
              <a:solidFill>
                <a:srgbClr val="0f5494"/>
              </a:solidFill>
              <a:latin typeface="Verdana"/>
            </a:endParaRPr>
          </a:p>
          <a:p>
            <a:pPr marL="34308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national revenue body in the majority of European countries is also responsible for the administration of property taxes (and often, motor vehicle taxes); elsewhere, these taxes are generally administered by sub-national governmen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2F19-17A0-400C-B934-F68A7E1364E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mmon challenges in developing countries</a:t>
            </a:r>
            <a:endParaRPr b="1" lang="en-US" sz="2800" spc="-1" strike="noStrike">
              <a:solidFill>
                <a:srgbClr val="0f5494"/>
              </a:solidFill>
              <a:latin typeface="Verdana"/>
            </a:endParaRPr>
          </a:p>
        </p:txBody>
      </p:sp>
      <p:sp>
        <p:nvSpPr>
          <p:cNvPr id="146" name=""/>
          <p:cNvSpPr txBox="1"/>
          <p:nvPr/>
        </p:nvSpPr>
        <p:spPr>
          <a:xfrm>
            <a:off x="179280" y="2358720"/>
            <a:ext cx="7772400" cy="388620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taxpayer databas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ak taxpayer servic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lex processes </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ak internal control</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adequate focus on enforced collection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fair (or nonexistent) appeals processes</a:t>
            </a:r>
            <a:endParaRPr b="0" i="1" lang="en-US" sz="2400" spc="-1" strike="noStrike">
              <a:solidFill>
                <a:srgbClr val="0f5494"/>
              </a:solidFill>
              <a:latin typeface="Verdana"/>
            </a:endParaRPr>
          </a:p>
        </p:txBody>
      </p:sp>
      <p:sp>
        <p:nvSpPr>
          <p:cNvPr id="14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E8A2-6AB4-436A-AE97-CC4CFDC6CB2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48" name="Picture 5" descr=""/>
          <p:cNvPicPr/>
          <p:nvPr/>
        </p:nvPicPr>
        <p:blipFill>
          <a:blip r:embed="rId1"/>
          <a:stretch/>
        </p:blipFill>
        <p:spPr>
          <a:xfrm>
            <a:off x="7164360" y="4135320"/>
            <a:ext cx="1797120" cy="2027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Administration Diagnostic Assessment Tool (TADAT)</a:t>
            </a:r>
            <a:endParaRPr b="1" lang="en-US" sz="3000" spc="-1" strike="noStrike">
              <a:solidFill>
                <a:srgbClr val="0f5494"/>
              </a:solidFill>
              <a:latin typeface="Verdana"/>
            </a:endParaRPr>
          </a:p>
        </p:txBody>
      </p:sp>
      <p:sp>
        <p:nvSpPr>
          <p:cNvPr id="15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f5494"/>
                </a:solidFill>
                <a:uFillTx/>
                <a:latin typeface="Verdana"/>
              </a:rPr>
              <a:t>Purpose:</a:t>
            </a:r>
            <a:r>
              <a:rPr b="0" lang="en-US" sz="2400" spc="-1" strike="noStrike">
                <a:solidFill>
                  <a:srgbClr val="0f5494"/>
                </a:solidFill>
                <a:latin typeface="Verdana"/>
              </a:rPr>
              <a:t> provide an objective and standardized assessment of the relative strengths and weaknesses of the administration of a country’s tax syste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Customs are not cover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ing approach.</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Public Reports: Jordan, Liberia, Georgia, Zambia.</a:t>
            </a:r>
            <a:endParaRPr b="1" lang="en-US" sz="2000" spc="-1" strike="noStrike">
              <a:solidFill>
                <a:srgbClr val="0f5494"/>
              </a:solidFill>
              <a:latin typeface="Verdana"/>
            </a:endParaRPr>
          </a:p>
        </p:txBody>
      </p:sp>
      <p:sp>
        <p:nvSpPr>
          <p:cNvPr id="1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3101-2B72-4BB7-8932-CBF435C067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C418-DA51-4CCC-9DE3-AEB280F713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3" name="Picture 2" descr=""/>
          <p:cNvPicPr/>
          <p:nvPr/>
        </p:nvPicPr>
        <p:blipFill>
          <a:blip r:embed="rId1"/>
          <a:stretch/>
        </p:blipFill>
        <p:spPr>
          <a:xfrm>
            <a:off x="1908000" y="1341360"/>
            <a:ext cx="5472360" cy="5275440"/>
          </a:xfrm>
          <a:prstGeom prst="rect">
            <a:avLst/>
          </a:prstGeom>
          <a:ln w="0">
            <a:noFill/>
          </a:ln>
        </p:spPr>
      </p:pic>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DAT</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new focus: improved customer service</a:t>
            </a:r>
            <a:endParaRPr b="1" lang="en-US" sz="2800" spc="-1" strike="noStrike">
              <a:solidFill>
                <a:srgbClr val="0f5494"/>
              </a:solidFill>
              <a:latin typeface="Verdana"/>
            </a:endParaRPr>
          </a:p>
        </p:txBody>
      </p:sp>
      <p:sp>
        <p:nvSpPr>
          <p:cNvPr id="156" name=""/>
          <p:cNvSpPr txBox="1"/>
          <p:nvPr/>
        </p:nvSpPr>
        <p:spPr>
          <a:xfrm>
            <a:off x="457200" y="249192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mprove access to information, assistance</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ilor services to taxpayer segment</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Make forms and instructions clear, easily accessible</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troduce one-stop, web-based and “e-” services</a:t>
            </a:r>
            <a:endParaRPr b="0" i="1" lang="en-US" sz="2200" spc="-1" strike="noStrike">
              <a:solidFill>
                <a:srgbClr val="0f5494"/>
              </a:solidFill>
              <a:latin typeface="Verdana"/>
            </a:endParaRPr>
          </a:p>
        </p:txBody>
      </p:sp>
      <p:pic>
        <p:nvPicPr>
          <p:cNvPr id="157" name="Picture 5" descr=""/>
          <p:cNvPicPr/>
          <p:nvPr/>
        </p:nvPicPr>
        <p:blipFill>
          <a:blip r:embed="rId1"/>
          <a:stretch/>
        </p:blipFill>
        <p:spPr>
          <a:xfrm>
            <a:off x="7020000" y="2637000"/>
            <a:ext cx="1879560" cy="1253880"/>
          </a:xfrm>
          <a:prstGeom prst="rect">
            <a:avLst/>
          </a:prstGeom>
          <a:ln w="0">
            <a:noFill/>
          </a:ln>
        </p:spPr>
      </p:pic>
      <p:pic>
        <p:nvPicPr>
          <p:cNvPr id="158" name="Picture 10" descr=""/>
          <p:cNvPicPr/>
          <p:nvPr/>
        </p:nvPicPr>
        <p:blipFill>
          <a:blip r:embed="rId2"/>
          <a:stretch/>
        </p:blipFill>
        <p:spPr>
          <a:xfrm>
            <a:off x="2865600" y="5349960"/>
            <a:ext cx="3230280" cy="1371600"/>
          </a:xfrm>
          <a:prstGeom prst="rect">
            <a:avLst/>
          </a:prstGeom>
          <a:ln w="0">
            <a:noFill/>
          </a:ln>
        </p:spPr>
      </p:pic>
      <p:sp>
        <p:nvSpPr>
          <p:cNvPr id="1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2BA8-557B-43CE-9EB3-0CE31F7EA2D9}"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457200" y="2344320"/>
            <a:ext cx="8229600" cy="3529080"/>
          </a:xfrm>
          <a:prstGeom prst="rect">
            <a:avLst/>
          </a:prstGeom>
          <a:noFill/>
          <a:ln w="0">
            <a:noFill/>
          </a:ln>
        </p:spPr>
        <p:txBody>
          <a:bodyPr anchor="t">
            <a:normAutofit fontScale="93000"/>
          </a:bodyPr>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Objectives of tax administration</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Actors and roles</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Major processes of the tax administration</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Organizational structures</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New foci</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xtractives</a:t>
            </a:r>
            <a:endParaRPr b="0" i="1" lang="en-US" sz="2400" spc="-1" strike="noStrike">
              <a:solidFill>
                <a:srgbClr val="0f5494"/>
              </a:solidFill>
              <a:latin typeface="Verdana"/>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 name="Picture 5" descr=""/>
          <p:cNvPicPr/>
          <p:nvPr/>
        </p:nvPicPr>
        <p:blipFill>
          <a:blip r:embed="rId1"/>
          <a:stretch/>
        </p:blipFill>
        <p:spPr>
          <a:xfrm>
            <a:off x="6858000" y="4419720"/>
            <a:ext cx="1343160" cy="1757160"/>
          </a:xfrm>
          <a:prstGeom prst="rect">
            <a:avLst/>
          </a:prstGeom>
          <a:ln w="0">
            <a:noFill/>
          </a:ln>
        </p:spPr>
      </p:pic>
      <p:sp>
        <p:nvSpPr>
          <p:cNvPr id="10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C69E-77CC-4B90-A934-5A863E55B8F6}"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ew focus: lowering compliance costs</a:t>
            </a:r>
            <a:endParaRPr b="1" lang="en-US" sz="3000" spc="-1" strike="noStrike">
              <a:solidFill>
                <a:srgbClr val="0f5494"/>
              </a:solidFill>
              <a:latin typeface="Verdana"/>
            </a:endParaRPr>
          </a:p>
        </p:txBody>
      </p:sp>
      <p:sp>
        <p:nvSpPr>
          <p:cNvPr id="161" name=""/>
          <p:cNvSpPr txBox="1"/>
          <p:nvPr/>
        </p:nvSpPr>
        <p:spPr>
          <a:xfrm>
            <a:off x="395280" y="2301480"/>
            <a:ext cx="8229600" cy="3529080"/>
          </a:xfrm>
          <a:prstGeom prst="rect">
            <a:avLst/>
          </a:prstGeom>
          <a:noFill/>
          <a:ln w="0">
            <a:noFill/>
          </a:ln>
        </p:spPr>
        <p:txBody>
          <a:bodyPr anchor="t">
            <a:normAutofit fontScale="83000"/>
          </a:bodyPr>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ke it easier and cheaper to comply</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olidate taxes</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mplify or clarify tax rules</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 filing/payment frequency</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minate nuisances</a:t>
            </a:r>
            <a:endParaRPr b="1" lang="en-US" sz="2400" spc="-1" strike="noStrike">
              <a:solidFill>
                <a:srgbClr val="0f5494"/>
              </a:solidFill>
              <a:latin typeface="Verdana"/>
            </a:endParaRPr>
          </a:p>
        </p:txBody>
      </p:sp>
      <p:sp>
        <p:nvSpPr>
          <p:cNvPr id="16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8C36-ABFD-4D75-8EC6-9BC6A5DC6C2F}"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63" name="Picture 2" descr=""/>
          <p:cNvPicPr/>
          <p:nvPr/>
        </p:nvPicPr>
        <p:blipFill>
          <a:blip r:embed="rId1"/>
          <a:stretch/>
        </p:blipFill>
        <p:spPr>
          <a:xfrm>
            <a:off x="6237360" y="2906640"/>
            <a:ext cx="2765520" cy="1736640"/>
          </a:xfrm>
          <a:prstGeom prst="rect">
            <a:avLst/>
          </a:prstGeom>
          <a:ln w="0">
            <a:noFill/>
          </a:ln>
        </p:spPr>
      </p:pic>
      <p:sp>
        <p:nvSpPr>
          <p:cNvPr id="164" name="TextBox 10"/>
          <p:cNvSpPr/>
          <p:nvPr/>
        </p:nvSpPr>
        <p:spPr>
          <a:xfrm>
            <a:off x="6323040" y="4645080"/>
            <a:ext cx="276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payers queue at a tax office in India</a:t>
            </a:r>
            <a:endParaRPr b="0" lang="en-US" sz="12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right © 2007, The Hindu.</a:t>
            </a:r>
            <a:endParaRPr b="0" lang="en-US" sz="12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new focus: risk-based audit</a:t>
            </a:r>
            <a:endParaRPr b="1" lang="en-US" sz="2800" spc="-1" strike="noStrike">
              <a:solidFill>
                <a:srgbClr val="0f5494"/>
              </a:solidFill>
              <a:latin typeface="Verdana"/>
            </a:endParaRPr>
          </a:p>
        </p:txBody>
      </p:sp>
      <p:sp>
        <p:nvSpPr>
          <p:cNvPr id="166" name="PlaceHolder 2"/>
          <p:cNvSpPr>
            <a:spLocks noGrp="1"/>
          </p:cNvSpPr>
          <p:nvPr>
            <p:ph/>
          </p:nvPr>
        </p:nvSpPr>
        <p:spPr>
          <a:xfrm>
            <a:off x="395280" y="2204640"/>
            <a:ext cx="8686800" cy="3529080"/>
          </a:xfrm>
          <a:prstGeom prst="rect">
            <a:avLst/>
          </a:prstGeom>
          <a:noFill/>
          <a:ln w="0">
            <a:noFill/>
          </a:ln>
        </p:spPr>
        <p:txBody>
          <a:bodyPr anchor="t">
            <a:normAutofit fontScale="83000"/>
          </a:bodyPr>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s discretion in audit selection</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lects cases based on defined risks</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ploys limited audit resources to highest risks</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wards compliant taxpayers by leaving them alone</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ds to fewer but better quality audits</a:t>
            </a:r>
            <a:endParaRPr b="0" i="1" lang="en-US" sz="24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7FE7-E311-47C7-BCAE-1EF52BE75CDA}"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r>
              <a:rPr b="1" lang="en-US" sz="3000" spc="-1" strike="noStrike">
                <a:solidFill>
                  <a:srgbClr val="0f5494"/>
                </a:solidFill>
                <a:latin typeface="Verdana"/>
              </a:rPr>
              <a:t>The new focus: how to pay tax collectors?</a:t>
            </a:r>
            <a:endParaRPr b="1" lang="en-US" sz="3000" spc="-1" strike="noStrike">
              <a:solidFill>
                <a:srgbClr val="0f5494"/>
              </a:solidFill>
              <a:latin typeface="Verdana"/>
            </a:endParaRPr>
          </a:p>
        </p:txBody>
      </p:sp>
      <p:sp>
        <p:nvSpPr>
          <p:cNvPr id="169"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ages: too low in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orrup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centives: bonus progra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What should be the base of incentives?</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llected tax revenue</a:t>
            </a:r>
            <a:endParaRPr b="0" lang="en-US" sz="14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Tax audit revenue</a:t>
            </a:r>
            <a:endParaRPr b="0"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periments in Pakistan and Brasi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ncrease tax revenu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owever, risk </a:t>
            </a:r>
            <a:r>
              <a:rPr b="0" lang="en-US" sz="2000" spc="-1" strike="noStrike">
                <a:solidFill>
                  <a:srgbClr val="0f5494"/>
                </a:solidFill>
                <a:latin typeface="Verdana"/>
              </a:rPr>
              <a:t>to make tax collectors overzealous, resorting to extortion in collecting overdue taxes.</a:t>
            </a:r>
            <a:r>
              <a:rPr b="0" lang="fr-FR" sz="2000" spc="-1" strike="noStrike">
                <a:solidFill>
                  <a:srgbClr val="0f5494"/>
                </a:solidFill>
                <a:latin typeface="Verdana"/>
              </a:rPr>
              <a:t>	</a:t>
            </a:r>
            <a:endParaRPr b="1" lang="en-US" sz="2000" spc="-1" strike="noStrike">
              <a:solidFill>
                <a:srgbClr val="0f5494"/>
              </a:solidFill>
              <a:latin typeface="Verdana"/>
            </a:endParaRPr>
          </a:p>
        </p:txBody>
      </p:sp>
      <p:sp>
        <p:nvSpPr>
          <p:cNvPr id="17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40CB-2BEB-4563-9A1F-B19ECD6582B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dministering tax regimes for extractive industries</a:t>
            </a:r>
            <a:endParaRPr b="1" lang="en-US" sz="3000" spc="-1" strike="noStrike">
              <a:solidFill>
                <a:srgbClr val="0f5494"/>
              </a:solidFill>
              <a:latin typeface="Verdana"/>
            </a:endParaRPr>
          </a:p>
        </p:txBody>
      </p:sp>
      <p:sp>
        <p:nvSpPr>
          <p:cNvPr id="172" name=""/>
          <p:cNvSpPr txBox="1"/>
          <p:nvPr/>
        </p:nvSpPr>
        <p:spPr>
          <a:xfrm>
            <a:off x="492120" y="2480760"/>
            <a:ext cx="8229600" cy="3529080"/>
          </a:xfrm>
          <a:prstGeom prst="rect">
            <a:avLst/>
          </a:prstGeom>
          <a:noFill/>
          <a:ln w="0">
            <a:noFill/>
          </a:ln>
        </p:spPr>
        <p:txBody>
          <a:bodyPr anchor="t">
            <a:normAutofit fontScale="98000"/>
          </a:bodyPr>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tractives pose special challenges for tax administration</a:t>
            </a:r>
            <a:endParaRPr b="0" i="1" lang="en-US" sz="2400" spc="-1" strike="noStrike">
              <a:solidFill>
                <a:srgbClr val="0f5494"/>
              </a:solidFill>
              <a:latin typeface="Verdana"/>
            </a:endParaRPr>
          </a:p>
          <a:p>
            <a:pPr lvl="1" marL="727920" indent="-280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everal ministries at stake</a:t>
            </a:r>
            <a:endParaRPr b="1" lang="en-US" sz="20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articular tax agreements with stability clause complicate matters</a:t>
            </a:r>
            <a:endParaRPr b="0" i="1" lang="en-US" sz="24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resence of national EI companies creates conflict and confusion of roles</a:t>
            </a:r>
            <a:endParaRPr b="0" i="1" lang="en-US" sz="24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tracting qualified staff to administer extractives may require special pay and other arrangements</a:t>
            </a:r>
            <a:endParaRPr b="0" i="1" lang="en-US" sz="2400" spc="-1" strike="noStrike">
              <a:solidFill>
                <a:srgbClr val="0f5494"/>
              </a:solidFill>
              <a:latin typeface="Verdana"/>
            </a:endParaRPr>
          </a:p>
        </p:txBody>
      </p:sp>
      <p:sp>
        <p:nvSpPr>
          <p:cNvPr id="17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619C-E763-4E00-A523-90DF21D7F807}"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560"/>
            <a:ext cx="864072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Main objectives of tax administration</a:t>
            </a:r>
            <a:endParaRPr b="1" lang="en-US" sz="2800" spc="-1" strike="noStrike">
              <a:solidFill>
                <a:srgbClr val="0f5494"/>
              </a:solidFill>
              <a:latin typeface="Verdana"/>
            </a:endParaRPr>
          </a:p>
        </p:txBody>
      </p:sp>
      <p:sp>
        <p:nvSpPr>
          <p:cNvPr id="103" name="PlaceHolder 2"/>
          <p:cNvSpPr>
            <a:spLocks noGrp="1"/>
          </p:cNvSpPr>
          <p:nvPr>
            <p:ph/>
          </p:nvPr>
        </p:nvSpPr>
        <p:spPr>
          <a:xfrm>
            <a:off x="324000" y="1988640"/>
            <a:ext cx="8686800" cy="417996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dministration </a:t>
            </a:r>
            <a:r>
              <a:rPr b="0" i="1" lang="en-US" sz="2400" spc="-1" strike="noStrike" u="sng">
                <a:solidFill>
                  <a:srgbClr val="0f5494"/>
                </a:solidFill>
                <a:uFillTx/>
                <a:latin typeface="Verdana"/>
              </a:rPr>
              <a:t>is</a:t>
            </a:r>
            <a:r>
              <a:rPr b="0" i="1" lang="en-US" sz="2400" spc="-1" strike="noStrike">
                <a:solidFill>
                  <a:srgbClr val="0f5494"/>
                </a:solidFill>
                <a:latin typeface="Verdana"/>
              </a:rPr>
              <a:t> tax policy." </a:t>
            </a:r>
            <a:endParaRPr b="0" i="1" lang="en-US" sz="2400" spc="-1" strike="noStrike">
              <a:solidFill>
                <a:srgbClr val="0f5494"/>
              </a:solidFill>
              <a:latin typeface="Verdana"/>
            </a:endParaRPr>
          </a:p>
          <a:p>
            <a:pPr lvl="2" marL="831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Milka Casanegra de Jantscher</a:t>
            </a:r>
            <a:endParaRPr b="0" lang="en-US" sz="1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How a tax system is administered affects its yield, its incidence, and its efficiency. Tax administration is too important to policy outcomes to be neglected by tax policy reformers.”</a:t>
            </a:r>
            <a:endParaRPr b="0" i="1" lang="en-US" sz="2400" spc="-1" strike="noStrike">
              <a:solidFill>
                <a:srgbClr val="0f5494"/>
              </a:solidFill>
              <a:latin typeface="Verdana"/>
            </a:endParaRPr>
          </a:p>
          <a:p>
            <a:pPr lvl="2" marL="831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Bird (2011)</a:t>
            </a:r>
            <a:endParaRPr b="0" lang="en-US" sz="1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llect the right amount of tax</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at the right </a:t>
            </a:r>
            <a:r>
              <a:rPr b="1" i="1" lang="en-US" sz="2400" spc="-1" strike="noStrike">
                <a:solidFill>
                  <a:srgbClr val="0f5494"/>
                </a:solidFill>
                <a:latin typeface="Verdana"/>
              </a:rPr>
              <a:t>time</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at minimal </a:t>
            </a:r>
            <a:r>
              <a:rPr b="1" i="1" lang="en-US" sz="2400" spc="-1" strike="noStrike">
                <a:solidFill>
                  <a:srgbClr val="0f5494"/>
                </a:solidFill>
                <a:latin typeface="Verdana"/>
              </a:rPr>
              <a:t>cost</a:t>
            </a:r>
            <a:r>
              <a:rPr b="0" i="1" lang="en-US" sz="2400" spc="-1" strike="noStrike">
                <a:solidFill>
                  <a:srgbClr val="0f5494"/>
                </a:solidFill>
                <a:latin typeface="Verdana"/>
              </a:rPr>
              <a:t> to the government</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hile imposing the least </a:t>
            </a:r>
            <a:r>
              <a:rPr b="1" i="1" lang="en-US" sz="2400" spc="-1" strike="noStrike">
                <a:solidFill>
                  <a:srgbClr val="0f5494"/>
                </a:solidFill>
                <a:latin typeface="Verdana"/>
              </a:rPr>
              <a:t>burden</a:t>
            </a:r>
            <a:r>
              <a:rPr b="0" i="1" lang="en-US" sz="2400" spc="-1" strike="noStrike">
                <a:solidFill>
                  <a:srgbClr val="0f5494"/>
                </a:solidFill>
                <a:latin typeface="Verdana"/>
              </a:rPr>
              <a:t> on taxpayers</a:t>
            </a:r>
            <a:endParaRPr b="0" i="1" lang="en-US" sz="2400" spc="-1" strike="noStrike">
              <a:solidFill>
                <a:srgbClr val="0f5494"/>
              </a:solidFill>
              <a:latin typeface="Verdana"/>
            </a:endParaRPr>
          </a:p>
        </p:txBody>
      </p:sp>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4ABC-7A87-464E-BAB0-6A84D2133D8B}"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0" dur="500"/>
                                        <p:tgtEl>
                                          <p:spTgt spid="103">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5" dur="500"/>
                                        <p:tgtEl>
                                          <p:spTgt spid="103">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8" dur="500"/>
                                        <p:tgtEl>
                                          <p:spTgt spid="103">
                                            <p:txEl>
                                              <p:pRg st="3" end="3"/>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3" dur="500"/>
                                        <p:tgtEl>
                                          <p:spTgt spid="103">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3">
                                            <p:txEl>
                                              <p:pRg st="5" end="5"/>
                                            </p:txEl>
                                          </p:spTgt>
                                        </p:tgtEl>
                                        <p:attrNameLst>
                                          <p:attrName>style.visibility</p:attrName>
                                        </p:attrNameLst>
                                      </p:cBhvr>
                                      <p:to>
                                        <p:strVal val="visible"/>
                                      </p:to>
                                    </p:set>
                                    <p:animEffect filter="fade" transition="in">
                                      <p:cBhvr additive="repl">
                                        <p:cTn id="28" dur="500"/>
                                        <p:tgtEl>
                                          <p:spTgt spid="103">
                                            <p:txEl>
                                              <p:pRg st="5" end="5"/>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3" dur="500"/>
                                        <p:tgtEl>
                                          <p:spTgt spid="103">
                                            <p:txEl>
                                              <p:pRg st="6" end="6"/>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3">
                                            <p:txEl>
                                              <p:pRg st="7" end="7"/>
                                            </p:txEl>
                                          </p:spTgt>
                                        </p:tgtEl>
                                        <p:attrNameLst>
                                          <p:attrName>style.visibility</p:attrName>
                                        </p:attrNameLst>
                                      </p:cBhvr>
                                      <p:to>
                                        <p:strVal val="visible"/>
                                      </p:to>
                                    </p:set>
                                    <p:animEffect filter="fade" transition="in">
                                      <p:cBhvr additive="repl">
                                        <p:cTn id="38"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ax administration: an extension of tax policy</a:t>
            </a:r>
            <a:endParaRPr b="1" lang="en-US" sz="2800" spc="-1" strike="noStrike">
              <a:solidFill>
                <a:srgbClr val="0f5494"/>
              </a:solidFill>
              <a:latin typeface="Verdana"/>
            </a:endParaRPr>
          </a:p>
        </p:txBody>
      </p:sp>
      <p:sp>
        <p:nvSpPr>
          <p:cNvPr id="106" name="PlaceHolder 2"/>
          <p:cNvSpPr>
            <a:spLocks noGrp="1"/>
          </p:cNvSpPr>
          <p:nvPr>
            <p:ph/>
          </p:nvPr>
        </p:nvSpPr>
        <p:spPr>
          <a:xfrm>
            <a:off x="610920" y="2420640"/>
            <a:ext cx="7840440" cy="3886200"/>
          </a:xfrm>
          <a:prstGeom prst="rect">
            <a:avLst/>
          </a:prstGeom>
          <a:noFill/>
          <a:ln w="0">
            <a:noFill/>
          </a:ln>
        </p:spPr>
        <p:txBody>
          <a:bodyPr anchor="t">
            <a:normAutofit/>
          </a:bodyPr>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Good tax policy administered poorly is not good tax policy.</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Bad tax policy administered well is still bad tax policy. </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Tax design must account for administrative capacity.</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How revenue is collected as important as how much.</a:t>
            </a:r>
            <a:endParaRPr b="0" i="1" lang="en-US" sz="2300" spc="-1" strike="noStrike">
              <a:solidFill>
                <a:srgbClr val="0f5494"/>
              </a:solidFill>
              <a:latin typeface="Verdana"/>
            </a:endParaRPr>
          </a:p>
        </p:txBody>
      </p:sp>
      <p:sp>
        <p:nvSpPr>
          <p:cNvPr id="1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001E-4212-4DEF-BD32-A0BA0ACA080F}"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320" y="995400"/>
            <a:ext cx="7886520" cy="1325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ctors and roles</a:t>
            </a:r>
            <a:endParaRPr b="1" lang="en-US" sz="3000" spc="-1" strike="noStrike">
              <a:solidFill>
                <a:srgbClr val="0f5494"/>
              </a:solidFill>
              <a:latin typeface="Verdana"/>
            </a:endParaRPr>
          </a:p>
        </p:txBody>
      </p:sp>
      <p:sp>
        <p:nvSpPr>
          <p:cNvPr id="109" name=""/>
          <p:cNvSpPr txBox="1"/>
          <p:nvPr/>
        </p:nvSpPr>
        <p:spPr>
          <a:xfrm>
            <a:off x="4628880" y="2504880"/>
            <a:ext cx="3887640" cy="3684600"/>
          </a:xfrm>
          <a:prstGeom prst="rect">
            <a:avLst/>
          </a:prstGeom>
          <a:noFill/>
          <a:ln w="0">
            <a:noFill/>
          </a:ln>
        </p:spPr>
        <p:txBody>
          <a:bodyPr anchor="t">
            <a:normAutofit/>
          </a:bodyPr>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operation</a:t>
            </a:r>
            <a:endParaRPr b="0" i="1" lang="en-US" sz="2400" spc="-1" strike="noStrike">
              <a:solidFill>
                <a:srgbClr val="0f5494"/>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A9EB-9888-46C4-B2E4-F69A6CDCFF9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11" name=""/>
          <p:cNvGraphicFramePr/>
          <p:nvPr/>
        </p:nvGraphicFramePr>
        <p:xfrm>
          <a:off x="755640" y="2349360"/>
          <a:ext cx="7632720" cy="3689640"/>
        </p:xfrm>
        <a:graphic>
          <a:graphicData uri="http://schemas.openxmlformats.org/drawingml/2006/table">
            <a:tbl>
              <a:tblPr/>
              <a:tblGrid>
                <a:gridCol w="3816360"/>
                <a:gridCol w="3816360"/>
              </a:tblGrid>
              <a:tr h="55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ctors</a:t>
                      </a:r>
                      <a:endParaRPr b="0" lang="en-US" sz="3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oles</a:t>
                      </a:r>
                      <a:endParaRPr b="0" lang="en-US" sz="3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Ministry of Finance</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Set policy</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9436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administration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mplemen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payer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ay and comply</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4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professional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ssist and represen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9656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ternational organization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Standard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ssue of fragmented tax power</a:t>
            </a:r>
            <a:endParaRPr b="1" lang="en-US" sz="3000" spc="-1" strike="noStrike">
              <a:solidFill>
                <a:srgbClr val="0f5494"/>
              </a:solidFill>
              <a:latin typeface="Verdana"/>
            </a:endParaRPr>
          </a:p>
        </p:txBody>
      </p:sp>
      <p:sp>
        <p:nvSpPr>
          <p:cNvPr id="113" name=""/>
          <p:cNvSpPr txBox="1"/>
          <p:nvPr/>
        </p:nvSpPr>
        <p:spPr>
          <a:xfrm>
            <a:off x="457200" y="1844640"/>
            <a:ext cx="8229600" cy="4176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ho decide the tax 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administration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policy unit (Ministry of Financ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ectoral ministries: conflict of interest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Mining minister =&gt; Mining Code =&gt; developing the economic (mining) activit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liferation of agenc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ew Public Finance Managemen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Agency for environment, public procurement, rural electr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wer to raise some quasi-taxes</a:t>
            </a:r>
            <a:endParaRPr b="1" lang="en-US" sz="2000" spc="-1" strike="noStrike">
              <a:solidFill>
                <a:srgbClr val="0f5494"/>
              </a:solidFill>
              <a:latin typeface="Verdana"/>
            </a:endParaRPr>
          </a:p>
        </p:txBody>
      </p:sp>
      <p:sp>
        <p:nvSpPr>
          <p:cNvPr id="11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2E39-4650-4A90-8700-B30B43BCD5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Tax collection cost as a Percentage of collected revenue in US and UK (1890-2011)</a:t>
            </a:r>
            <a:endParaRPr b="1" lang="en-US" sz="24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779D-EECF-4987-B379-011239DEBB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7" name="Picture 2" descr=""/>
          <p:cNvPicPr/>
          <p:nvPr/>
        </p:nvPicPr>
        <p:blipFill>
          <a:blip r:embed="rId1"/>
          <a:stretch/>
        </p:blipFill>
        <p:spPr>
          <a:xfrm>
            <a:off x="1187280" y="2344680"/>
            <a:ext cx="6121440" cy="427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re tasks of tax administration</a:t>
            </a:r>
            <a:endParaRPr b="1" lang="en-US" sz="3000" spc="-1" strike="noStrike">
              <a:solidFill>
                <a:srgbClr val="0f5494"/>
              </a:solidFill>
              <a:latin typeface="Verdana"/>
            </a:endParaRPr>
          </a:p>
        </p:txBody>
      </p:sp>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acilitating voluntary compli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onitoring compli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forcing compliance</a:t>
            </a:r>
            <a:endParaRPr b="0" i="1" lang="en-US" sz="2400" spc="-1" strike="noStrike">
              <a:solidFill>
                <a:srgbClr val="0f5494"/>
              </a:solidFill>
              <a:latin typeface="Verdana"/>
            </a:endParaRPr>
          </a:p>
        </p:txBody>
      </p:sp>
      <p:pic>
        <p:nvPicPr>
          <p:cNvPr id="120" name="Picture 6" descr=""/>
          <p:cNvPicPr/>
          <p:nvPr/>
        </p:nvPicPr>
        <p:blipFill>
          <a:blip r:embed="rId1"/>
          <a:stretch/>
        </p:blipFill>
        <p:spPr>
          <a:xfrm>
            <a:off x="6012000" y="2781360"/>
            <a:ext cx="2930400" cy="2544840"/>
          </a:xfrm>
          <a:prstGeom prst="rect">
            <a:avLst/>
          </a:prstGeom>
          <a:ln w="0">
            <a:noFill/>
          </a:ln>
        </p:spPr>
      </p:pic>
      <p:sp>
        <p:nvSpPr>
          <p:cNvPr id="12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A197-697F-4372-8738-CBF7A051D2C0}"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vasion in economic science</a:t>
            </a:r>
            <a:endParaRPr b="1" lang="en-US" sz="3000" spc="-1" strike="noStrike">
              <a:solidFill>
                <a:srgbClr val="0f5494"/>
              </a:solidFill>
              <a:latin typeface="Verdana"/>
            </a:endParaRPr>
          </a:p>
        </p:txBody>
      </p:sp>
      <p:sp>
        <p:nvSpPr>
          <p:cNvPr id="123" name=""/>
          <p:cNvSpPr txBox="1"/>
          <p:nvPr/>
        </p:nvSpPr>
        <p:spPr>
          <a:xfrm>
            <a:off x="457200" y="1988640"/>
            <a:ext cx="8229600" cy="403236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Becker’s approach of crime applied to tax evasion</a:t>
            </a:r>
            <a:endParaRPr b="0" i="1" lang="en-US" sz="2800" spc="-1" strike="noStrike">
              <a:solidFill>
                <a:srgbClr val="0f5494"/>
              </a:solidFill>
              <a:latin typeface="Verdana"/>
            </a:endParaRPr>
          </a:p>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llingham and Sandmo (1972) model</a:t>
            </a:r>
            <a:endParaRPr b="0" i="1" lang="en-US" sz="28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de an amount of taxable income</a:t>
            </a:r>
            <a:endParaRPr b="1" lang="en-US" sz="24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obability to be audited and to pay fines</a:t>
            </a:r>
            <a:endParaRPr b="1" lang="en-US" sz="24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xpected utility model: risk aversion</a:t>
            </a:r>
            <a:endParaRPr b="1" lang="en-US" sz="2400" spc="-1" strike="noStrike">
              <a:solidFill>
                <a:srgbClr val="0f5494"/>
              </a:solidFill>
              <a:latin typeface="Verdana"/>
            </a:endParaRPr>
          </a:p>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Puzzle: the theory predicts a higher level of evasion than what is ‘observed.’</a:t>
            </a:r>
            <a:endParaRPr b="0" i="1" lang="en-US" sz="28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New models of decision under risk and uncertainty =&gt; psychology, pessimism, civi-minded attitude…</a:t>
            </a:r>
            <a:endParaRPr b="1" lang="en-US" sz="2400" spc="-1" strike="noStrike">
              <a:solidFill>
                <a:srgbClr val="0f5494"/>
              </a:solidFill>
              <a:latin typeface="Verdana"/>
            </a:endParaRPr>
          </a:p>
        </p:txBody>
      </p:sp>
      <p:sp>
        <p:nvSpPr>
          <p:cNvPr id="12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6D36-4916-4FDE-868A-87856BB9B7E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17:49:34Z</cp:lastPrinted>
  <dcterms:modified xsi:type="dcterms:W3CDTF">2017-04-06T15:19:11Z</dcterms:modified>
  <cp:revision>150</cp:revision>
  <dc:subject/>
  <dc:title>Slide 1</dc:title>
</cp:coreProperties>
</file>